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1.jpeg" ContentType="image/jpeg"/>
  <Override PartName="/ppt/media/image35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20.jpeg" ContentType="image/jpeg"/>
  <Override PartName="/ppt/media/image21.jpeg" ContentType="image/jpeg"/>
  <Override PartName="/ppt/media/image16.jpeg" ContentType="image/jpeg"/>
  <Override PartName="/ppt/media/image3.jpeg" ContentType="image/jpeg"/>
  <Override PartName="/ppt/media/image37.jpeg" ContentType="image/jpeg"/>
  <Override PartName="/ppt/media/image60.jpeg" ContentType="image/jpeg"/>
  <Override PartName="/ppt/media/image77.jpeg" ContentType="image/jpeg"/>
  <Override PartName="/ppt/media/image17.jpeg" ContentType="image/jpeg"/>
  <Override PartName="/ppt/media/image61.jpeg" ContentType="image/jpeg"/>
  <Override PartName="/ppt/media/image4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76.jpeg" ContentType="image/jpeg"/>
  <Override PartName="/ppt/media/image75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70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2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6AD60-1CD4-423A-8218-90095BE19C16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9FBDA-0C79-48B0-AEAF-C0245585F2F5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8BFEB-4EAB-475D-860C-9487878451F7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4771F-77E3-4055-A9B9-D16AC484E1A4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16CFE-3955-45CD-9B2F-BB5970EAFE40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08F41-43F3-44A6-9F89-46580FA52724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8CD22-AEB3-4F0F-A3ED-F9A021542FB6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1AEB4-44F9-412E-9F08-4F417C1D2D95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4A89A-B619-4B9C-925C-7534748E97FC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A5A04-FB26-47C9-8A3B-E875DF7190BA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7430C-79F0-4EDE-BB55-34AA03E7CF33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D43FD-28EA-4B8B-A27E-9F14054C34EC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7ECF0-463A-4DA6-BC82-8B4BFBB4DBD9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D2442-E20D-429D-9C4D-EF4B993CED81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38BB2-535F-4B9D-8DE4-4512CB20FD20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B8415-E399-4A7A-8385-63431315D7E0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F7DAE-DBDE-4195-B84C-30FE24D6D7D1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20AF7-A4C2-4DE1-A55F-F6EAAE43F202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0072-B501-4F96-9A4A-2FF69A34A664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336F8-ADD2-4182-BB78-FA69DFEDFE6E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55F80-5A61-4DD2-A6C9-33E88E7FC92B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8E3D7-6D3A-4C70-93C1-7E0774BD56AD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392D5-3602-460E-955D-CB2DCA9BB2E9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CC261-C99B-4981-81F9-64EC99F15107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F0C9C-F54A-4A7C-8841-DBD20EFEF307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CC8A2-67EE-40F7-AEC3-8D7555D61A2B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17F8E-360D-4F60-96D1-F90847EBE288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A4BC0-5F25-4212-9B68-01046BDCB6D6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56AF3-906C-4248-8642-7AEBDDD067A0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5D6E0-8793-437E-A66E-362290A18AE4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10669-54DC-4BD6-A42E-3919BCDBDE24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B7FFF-3546-4620-BC8D-946E8A4864DC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AD8B4-9568-4575-81E9-597CDADE1AA3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83448-4E74-4465-BE0A-81CECA33DBF6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30C01-B6F5-4225-B88F-89FAD731769A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F01E9-1ABC-44CA-BC47-771B800F6B82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4209-BD64-45B2-BB2A-D8C862C0790E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0CB83-B7E3-46B2-92FF-8EF3B24AFCAB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F791D-A2C4-496D-A437-99EDCD86E115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F6C71-2BB2-4287-8BBA-51383B7D123F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9E731-8BFB-4370-909C-274B64C222C2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4B3CA-C59C-4A26-AE1C-FFCC372C9B30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0CE62-5A8B-4471-922D-676696620756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99602-357E-4963-A8BC-04FD49BD7BC2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37EB7-066C-4C2A-B9DF-EAFD9480915A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0B576-2DAB-41C7-9356-E128071FC3C1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41DBF-A79B-4884-AACC-517F65257540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40D8A-6261-498E-B85A-9EBA63A27A3A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C3A11-46CF-4E8E-930C-55B55653D678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C4C72-401D-4305-B65F-F3EC51885160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00C4D-19C5-4ECC-B861-E387737B5DA1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C0506-0009-4BFC-BEA2-669DA2C7C460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4EE22-CF8C-4D0B-A9CC-C6EC77020217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3E081-01AE-422D-B013-4E840D154118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C6215-3012-4AE8-89DB-B6F371E97D76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B5B7C-C3C4-4A13-B040-D96CB40C7B5B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E1231-70E3-4AA7-89B9-7D58205AD9D7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7D738-261C-4008-8C58-37C85AAED60F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B30A1-0D69-4AAD-92A4-41D9837643EB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32630-C9B8-44E0-8FE2-BD366EF2925A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04ADF-B83D-4BD9-B6E1-1BE4BD4137B2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483E2-563B-461F-A8D2-1AD2F453939A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A2680-65AC-4E2B-AB83-71F64D58EC08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1F338-70A0-48E1-9D1A-9EDFEED17DDA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8F87E-C4C1-48B2-8553-FAB7C777B50A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708D1-869C-4394-8B8C-E63F94C81B90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55876-42DA-4202-A3E6-BC6F8760B366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3B706-2A9E-46E1-8354-867AFB382118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4D91B-C91E-470D-8A72-8D78BF330B6A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01464-E443-4736-9F6C-19757C4A7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4DED1-B23A-474C-8B77-2A87A88AF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25077-8B75-4F88-8F7E-39D2E62C8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12087-79AC-4706-98AB-97A1532ED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976C2-E819-4A0A-A45C-46E0ED9C8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4A7CC-DEFE-4449-8F16-9E6042CF4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538F4-15B1-475B-9925-42E62919E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BA799-B950-44F9-A5B8-2583F2E6C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0DA9D-A303-4110-9320-B6802C111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DB8BA-F9FF-4B06-BD8A-BE7851EAB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52C6A-7B4C-4624-BC34-9A540D83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28F23-BAE7-44FE-918F-B917EB268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9C1B4-B0F9-4A11-9C16-7FEDA4E2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E92C3-B877-49D4-B6B3-2A51E52F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487D0-7F81-4426-8C0C-70C45AEBC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884AB-5F90-4517-847F-F4BFE3777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2E9AA-46F6-459F-8598-27145FBEE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FD547-C543-4718-9B73-2C530AED5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73662-E241-4B1D-800C-98E164E41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39D6C-F374-4A89-B0E0-6700F6D1F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D635F-5DE3-4F4B-B044-F826756B4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B30AC-B089-431D-AB5F-FD0EB099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9EE39-37E8-4C46-BBD8-9A93D9E0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6ACFC-1022-4154-B46D-2B4D3DDF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84CD8-BB1C-4DC3-BF04-901CDA8B717E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B3782-72C8-4962-AE2F-60E38B9980D2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image" Target="../media/image53.jpeg"/><Relationship Id="rId7" Type="http://schemas.openxmlformats.org/officeDocument/2006/relationships/image" Target="../media/image54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image" Target="../media/image6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image" Target="../media/image71.jpeg"/><Relationship Id="rId5" Type="http://schemas.openxmlformats.org/officeDocument/2006/relationships/image" Target="../media/image7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jpeg"/><Relationship Id="rId3" Type="http://schemas.openxmlformats.org/officeDocument/2006/relationships/image" Target="../media/image7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337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r>
              <a:rPr b="1" lang="en-US" sz="7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Х</a:t>
            </a:r>
            <a:r>
              <a:rPr b="1" lang="sr-CS" sz="7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ирургија једњака</a:t>
            </a: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499840" y="5500440"/>
            <a:ext cx="63579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2000" spc="-1" strike="noStrike">
              <a:solidFill>
                <a:srgbClr val="ffff00"/>
              </a:solidFill>
              <a:latin typeface="Verdana"/>
              <a:ea typeface="Times New Roman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BF486-0911-4F78-B8BA-4E3F57D5A72A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142560"/>
            <a:ext cx="493236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сно:</a:t>
            </a:r>
            <a:r>
              <a:rPr b="1" lang="sr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Р</a:t>
            </a:r>
            <a:r>
              <a:rPr b="1" lang="sr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азна страна тела</a:t>
            </a:r>
            <a:r>
              <a:rPr b="1" lang="sr-Latn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во горе: </a:t>
            </a:r>
            <a:r>
              <a:rPr b="1" lang="sr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Вађење новчића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во доле: 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Л</a:t>
            </a:r>
            <a:r>
              <a:rPr b="1" lang="sr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ажно страно тело код стенозе једњака</a:t>
            </a:r>
            <a:r>
              <a:rPr b="1" lang="sr-Latn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 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2E69D-7CAF-4C2E-925D-E19B29F2B2B7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8" descr="radAE563.jpg"/>
          <p:cNvPicPr/>
          <p:nvPr/>
        </p:nvPicPr>
        <p:blipFill>
          <a:blip r:embed="rId1"/>
          <a:stretch/>
        </p:blipFill>
        <p:spPr>
          <a:xfrm>
            <a:off x="0" y="4000680"/>
            <a:ext cx="2714760" cy="28573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radDB414.jpg"/>
          <p:cNvPicPr/>
          <p:nvPr/>
        </p:nvPicPr>
        <p:blipFill>
          <a:blip r:embed="rId2"/>
          <a:stretch/>
        </p:blipFill>
        <p:spPr>
          <a:xfrm>
            <a:off x="4857840" y="0"/>
            <a:ext cx="428616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" descr="radFE841.jpg"/>
          <p:cNvPicPr/>
          <p:nvPr/>
        </p:nvPicPr>
        <p:blipFill>
          <a:blip r:embed="rId3"/>
          <a:stretch/>
        </p:blipFill>
        <p:spPr>
          <a:xfrm>
            <a:off x="2714760" y="4500720"/>
            <a:ext cx="2146320" cy="2357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1" descr="rad862B8.jpg"/>
          <p:cNvPicPr/>
          <p:nvPr/>
        </p:nvPicPr>
        <p:blipFill>
          <a:blip r:embed="rId4"/>
          <a:stretch/>
        </p:blipFill>
        <p:spPr>
          <a:xfrm>
            <a:off x="2714760" y="1857240"/>
            <a:ext cx="2144520" cy="2643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2" descr="rad6A654.jpg"/>
          <p:cNvPicPr/>
          <p:nvPr/>
        </p:nvPicPr>
        <p:blipFill>
          <a:blip r:embed="rId5"/>
          <a:stretch/>
        </p:blipFill>
        <p:spPr>
          <a:xfrm>
            <a:off x="0" y="1857240"/>
            <a:ext cx="2714760" cy="21434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00040"/>
            <a:ext cx="914400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во:</a:t>
            </a:r>
            <a:r>
              <a:rPr b="1" lang="sr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Вађење страног тела из торакалног дела једњака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сно горе: 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С</a:t>
            </a:r>
            <a:r>
              <a:rPr b="1" lang="sr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утура једњака</a:t>
            </a:r>
            <a:r>
              <a:rPr b="1" lang="sr-Latn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сно доле: </a:t>
            </a:r>
            <a:r>
              <a:rPr b="1" lang="sr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Вађење протезе из вратног дела једљака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CACC3-9C72-4B8F-A4DB-87E72F9C0427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6" descr="radF51F8.jpg"/>
          <p:cNvPicPr/>
          <p:nvPr/>
        </p:nvPicPr>
        <p:blipFill>
          <a:blip r:embed="rId1"/>
          <a:stretch/>
        </p:blipFill>
        <p:spPr>
          <a:xfrm>
            <a:off x="5364000" y="1500120"/>
            <a:ext cx="3780000" cy="25718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rad11AD4.jpg"/>
          <p:cNvPicPr/>
          <p:nvPr/>
        </p:nvPicPr>
        <p:blipFill>
          <a:blip r:embed="rId2"/>
          <a:stretch/>
        </p:blipFill>
        <p:spPr>
          <a:xfrm>
            <a:off x="0" y="1500120"/>
            <a:ext cx="5357880" cy="53578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rad4E984.jpg"/>
          <p:cNvPicPr/>
          <p:nvPr/>
        </p:nvPicPr>
        <p:blipFill>
          <a:blip r:embed="rId3"/>
          <a:stretch/>
        </p:blipFill>
        <p:spPr>
          <a:xfrm>
            <a:off x="5357880" y="4071960"/>
            <a:ext cx="3786120" cy="27860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П</a:t>
            </a:r>
            <a:r>
              <a:rPr b="1" lang="sr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одела повреда једњак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0" y="6429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97240" indent="-597240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</a:t>
            </a: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ханичке</a:t>
            </a:r>
            <a:r>
              <a:rPr b="1" lang="sr-Latn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оруђем и оружјем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ешће у врату 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597240" indent="-597240">
              <a:lnSpc>
                <a:spcPct val="90000"/>
              </a:lnSpc>
              <a:spcBef>
                <a:spcPts val="1001"/>
              </a:spcBef>
              <a:buClr>
                <a:srgbClr val="c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f0fc"/>
                </a:solidFill>
                <a:latin typeface="Times New Roman"/>
                <a:ea typeface="Times New Roman"/>
              </a:rPr>
              <a:t>О</a:t>
            </a:r>
            <a:r>
              <a:rPr b="1" lang="sr-CS" sz="4000" spc="-1" strike="noStrike">
                <a:solidFill>
                  <a:srgbClr val="04f0fc"/>
                </a:solidFill>
                <a:latin typeface="Times New Roman"/>
                <a:ea typeface="Times New Roman"/>
              </a:rPr>
              <a:t>творене 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ватрено оружје - устрелине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прострелине,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хладно оружје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–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секотине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бодине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бодине 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597240" indent="-597240">
              <a:lnSpc>
                <a:spcPct val="100000"/>
              </a:lnSpc>
              <a:spcBef>
                <a:spcPts val="1001"/>
              </a:spcBef>
              <a:buClr>
                <a:srgbClr val="c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f0fc"/>
                </a:solidFill>
                <a:latin typeface="Times New Roman"/>
                <a:ea typeface="Times New Roman"/>
              </a:rPr>
              <a:t>З</a:t>
            </a:r>
            <a:r>
              <a:rPr b="1" lang="sr-CS" sz="4000" spc="-1" strike="noStrike">
                <a:solidFill>
                  <a:srgbClr val="04f0fc"/>
                </a:solidFill>
                <a:latin typeface="Times New Roman"/>
                <a:ea typeface="Times New Roman"/>
              </a:rPr>
              <a:t>атворене</a:t>
            </a:r>
            <a:r>
              <a:rPr b="1" lang="sr-Latn-CS" sz="4000" spc="-1" strike="noStrike">
                <a:solidFill>
                  <a:srgbClr val="04f0fc"/>
                </a:solidFill>
                <a:latin typeface="Times New Roman"/>
                <a:ea typeface="Times New Roman"/>
              </a:rPr>
              <a:t> 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јатрогене повреде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рана тела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емијске корозије 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597240" indent="-597240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</a:t>
            </a: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мијске</a:t>
            </a:r>
            <a:r>
              <a:rPr b="1" lang="sr-Latn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киселине и базе 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597240" indent="-59724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AD0D6-3DB8-4A5F-9499-CC6BF56986DF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О</a:t>
            </a:r>
            <a:r>
              <a:rPr b="1" lang="sr-CS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творене повреде једњак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856800"/>
            <a:ext cx="9144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котине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убодине, прободине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рострелине и устрелине врата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пратеће повреде гркљана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душника и крвних судова , саливарна фистула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поткожни емфизем, дубока флегмона врата 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дине и прострелине једњака у медијастинум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медијастинитис анаеробног типа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ешко стање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неумомедијастинум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ебрилност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399E8-102A-414C-90D1-C0D251CFFC0E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Јатрогене перфорације једњака</a:t>
            </a:r>
            <a:br>
              <a:rPr sz="4000"/>
            </a:br>
            <a:r>
              <a:rPr b="1" lang="sr-Latn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04f0fc"/>
                </a:solidFill>
                <a:latin typeface="Times New Roman"/>
                <a:ea typeface="Times New Roman"/>
              </a:rPr>
              <a:t>инструменталн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офагоскопије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бужирања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дилатације балоном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екморова сонда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операције штитасте жлезд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то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.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дњи зид вратног дела једњака на кичменом стуб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то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.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д левог главног бронха и на хијатусу дијафрагм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имптоми: бол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грозница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дисфагиј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наци: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ипотензија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шок, крепитације и емфизем врата и медијастину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TG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дијагноза: медијастинитис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плеурални излив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пнеумоторакс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тна хируршка интервенција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утура и дренаж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AAC0F-ABBC-4872-94F5-E13983CD97C4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143280"/>
            <a:ext cx="9144000" cy="119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С</a:t>
            </a:r>
            <a:r>
              <a:rPr b="1" lang="sr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понтане перфорације једњака</a:t>
            </a:r>
            <a:br>
              <a:rPr sz="3200"/>
            </a:br>
            <a:r>
              <a:rPr b="1" i="1" lang="sr-Latn-CS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4f0fc"/>
                </a:solidFill>
                <a:latin typeface="Times New Roman"/>
                <a:ea typeface="Times New Roman"/>
              </a:rPr>
              <a:t>Синдром</a:t>
            </a:r>
            <a:r>
              <a:rPr b="1" lang="sr-Latn-CS" sz="3200" spc="-1" strike="noStrike">
                <a:solidFill>
                  <a:srgbClr val="04f0fc"/>
                </a:solidFill>
                <a:latin typeface="Times New Roman"/>
                <a:ea typeface="Times New Roman"/>
              </a:rPr>
              <a:t> Boerhaav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0" y="785520"/>
            <a:ext cx="91440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теметично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обилна исхран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кохолисана стањ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окализација: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ево пуца уадњи зид доњег дела једњака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есно пуца средњи део једњака код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. azyg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мптоми и знаци: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јак бол у грудном кошу за време и после повраћања. пиопнеумоторакс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широка медијастинална сенка на рентгену, крепитације у врату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ематемеза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синдром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llory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eiss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чење: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сутура и дренажа у првих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2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сати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касније езофагостомија и реконструкција у два акт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9EAB4-5E5A-413E-9746-F7238C9ED66F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Л</a:t>
            </a:r>
            <a:r>
              <a:rPr b="1" lang="sr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ечење перфорација једњак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0" y="1000080"/>
            <a:ext cx="91440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.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2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ати од повреде: мала инфламација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ебридман, примарни шав, дренаж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12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4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ати од повреде: израже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фламација, примарни шав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леуралн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ouch,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ренаж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.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&gt;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24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ати од повреде: деривација, ексклузија једњака или езофагектомиј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ви постоперативни дани: гастростомија 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јејуностомија за исхрану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8014E-DB7F-4D7F-B909-F87E1090491A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643720" cy="30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Н</a:t>
            </a:r>
            <a:r>
              <a:rPr b="1" lang="sr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ајчешћи узроци јатрогеног повређивања једњака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3FA21-6DD4-4B29-8AB6-8F97305152FD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5" descr="rad12EC6.jpg"/>
          <p:cNvPicPr/>
          <p:nvPr/>
        </p:nvPicPr>
        <p:blipFill>
          <a:blip r:embed="rId1"/>
          <a:stretch/>
        </p:blipFill>
        <p:spPr>
          <a:xfrm>
            <a:off x="5500800" y="0"/>
            <a:ext cx="3643200" cy="6858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radC4B58.jpg"/>
          <p:cNvPicPr/>
          <p:nvPr/>
        </p:nvPicPr>
        <p:blipFill>
          <a:blip r:embed="rId2"/>
          <a:stretch/>
        </p:blipFill>
        <p:spPr>
          <a:xfrm>
            <a:off x="0" y="2143080"/>
            <a:ext cx="5500800" cy="47149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К</a:t>
            </a:r>
            <a:r>
              <a:rPr b="1" lang="sr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орозије једњак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0" y="928800"/>
            <a:ext cx="91440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утање каустика: задесно и суицидно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иселине: коагулациона некроза је плића, даје тешке стеноз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азе: коликвациона некроза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пробија у дубину, даје перфорације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c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тна фаза: опекотине усана и ждрел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c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тентна фаза: без тегоб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c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нична фаза: стенозе на ангустијама, дисфагиј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78297-E35B-4AAA-A732-3354C37F75CF}" type="slidenum">
              <a:rPr b="0" lang="sr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Л</a:t>
            </a:r>
            <a:r>
              <a:rPr b="1" lang="sr-CS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ечење корозија једњак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928800"/>
            <a:ext cx="91440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тна фаза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ирање водом, антидоти, антибиотици, кортикостероиди, аналгетици, интубација после друге недеље, дилатација код раних стеноза и гастротомиј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нична фаза: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илатације и бужирањ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финитивна опструкциј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ативно лечењ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офагектомије и колопластике једњака ретростернално и трансмедијастинално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палијативне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“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y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–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ss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“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процедуре без езофагектомије антеторакално и ретростерналн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4D15E-C7A5-4F9D-8D45-75F71D077B4E}" type="slidenum">
              <a:rPr b="0" lang="sr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Е</a:t>
            </a:r>
            <a:r>
              <a:rPr b="1" lang="sr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зофагеални синдром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0" y="856800"/>
            <a:ext cx="9144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HAGIO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ежано гутањ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нкционална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 хладну течност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ганска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 чврсту храну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USORIA (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мпресија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a.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bclaviae dex.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YNOPHAGIO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но гутањ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флукс езофагитис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ндидијаза код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IDS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птички улкус једњак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YROSI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t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GURGITATIO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љење у епигастријуму и ретростернално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раћање киселине и хране на уст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флукс киселине и жучи у једња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јатус херније и дивертикули једњак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7F508-68FA-4BCD-9DB6-D4A64F0C6031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00320" y="0"/>
            <a:ext cx="514332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оре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r>
              <a:rPr b="1" lang="sr-Latn-C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Припрема сегмента колона за колопластику</a:t>
            </a:r>
            <a:br>
              <a:rPr sz="2000"/>
            </a:br>
            <a:r>
              <a:rPr b="1" lang="sr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оле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r>
              <a:rPr b="1" lang="sr-Latn-C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Типови васкуларизације и схеме сегмената колона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1B464-E223-4617-BA28-55C35DD1B4DD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8" descr="rad06438.jpg"/>
          <p:cNvPicPr/>
          <p:nvPr/>
        </p:nvPicPr>
        <p:blipFill>
          <a:blip r:embed="rId1"/>
          <a:stretch/>
        </p:blipFill>
        <p:spPr>
          <a:xfrm>
            <a:off x="0" y="4929120"/>
            <a:ext cx="1660680" cy="19288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rad043C7.jpg"/>
          <p:cNvPicPr/>
          <p:nvPr/>
        </p:nvPicPr>
        <p:blipFill>
          <a:blip r:embed="rId2"/>
          <a:stretch/>
        </p:blipFill>
        <p:spPr>
          <a:xfrm>
            <a:off x="1652760" y="4929120"/>
            <a:ext cx="7491240" cy="19288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" descr="rad19CE3.jpg"/>
          <p:cNvPicPr/>
          <p:nvPr/>
        </p:nvPicPr>
        <p:blipFill>
          <a:blip r:embed="rId3"/>
          <a:stretch/>
        </p:blipFill>
        <p:spPr>
          <a:xfrm>
            <a:off x="4000680" y="1571760"/>
            <a:ext cx="5143320" cy="3429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1" descr="rad6E106.jpg"/>
          <p:cNvPicPr/>
          <p:nvPr/>
        </p:nvPicPr>
        <p:blipFill>
          <a:blip r:embed="rId4"/>
          <a:stretch/>
        </p:blipFill>
        <p:spPr>
          <a:xfrm>
            <a:off x="0" y="2637000"/>
            <a:ext cx="4000680" cy="22921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2" descr="radAD788.jpg"/>
          <p:cNvPicPr/>
          <p:nvPr/>
        </p:nvPicPr>
        <p:blipFill>
          <a:blip r:embed="rId5"/>
          <a:stretch/>
        </p:blipFill>
        <p:spPr>
          <a:xfrm>
            <a:off x="0" y="0"/>
            <a:ext cx="4000680" cy="26431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</a:t>
            </a:r>
            <a:r>
              <a:rPr b="1" lang="sr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сно: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Р</a:t>
            </a:r>
            <a:r>
              <a:rPr b="1" lang="sr-C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етростернална колопластика једњака</a:t>
            </a:r>
            <a:r>
              <a:rPr b="1" lang="sr-Latn-C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</a:t>
            </a:r>
            <a:r>
              <a:rPr b="1" lang="sr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ле и лево: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С</a:t>
            </a:r>
            <a:r>
              <a:rPr b="1" lang="sr-C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лободни трансплатат и анастомоза</a:t>
            </a:r>
            <a:r>
              <a:rPr b="1" lang="sr-Latn-C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a. ileocolicae </a:t>
            </a:r>
            <a:r>
              <a:rPr b="1" lang="sr-C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са каритидом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4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94EFE-4900-4A46-9BA8-7B93796D83C4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8" descr="rad2AA29.jpg"/>
          <p:cNvPicPr/>
          <p:nvPr/>
        </p:nvPicPr>
        <p:blipFill>
          <a:blip r:embed="rId1"/>
          <a:stretch/>
        </p:blipFill>
        <p:spPr>
          <a:xfrm>
            <a:off x="1643040" y="3857760"/>
            <a:ext cx="2857680" cy="30002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radC9EF3.jpg"/>
          <p:cNvPicPr/>
          <p:nvPr/>
        </p:nvPicPr>
        <p:blipFill>
          <a:blip r:embed="rId2"/>
          <a:stretch/>
        </p:blipFill>
        <p:spPr>
          <a:xfrm>
            <a:off x="4500720" y="3857760"/>
            <a:ext cx="4643280" cy="30002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0" descr="rad22449.jpg"/>
          <p:cNvPicPr/>
          <p:nvPr/>
        </p:nvPicPr>
        <p:blipFill>
          <a:blip r:embed="rId3"/>
          <a:stretch/>
        </p:blipFill>
        <p:spPr>
          <a:xfrm>
            <a:off x="0" y="857160"/>
            <a:ext cx="1636560" cy="60008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1" descr="rad7D2B8.jpg"/>
          <p:cNvPicPr/>
          <p:nvPr/>
        </p:nvPicPr>
        <p:blipFill>
          <a:blip r:embed="rId4"/>
          <a:stretch/>
        </p:blipFill>
        <p:spPr>
          <a:xfrm>
            <a:off x="4286160" y="857160"/>
            <a:ext cx="4857840" cy="30355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2" descr="rad50A24.jpg"/>
          <p:cNvPicPr/>
          <p:nvPr/>
        </p:nvPicPr>
        <p:blipFill>
          <a:blip r:embed="rId5"/>
          <a:stretch/>
        </p:blipFill>
        <p:spPr>
          <a:xfrm>
            <a:off x="1643040" y="857160"/>
            <a:ext cx="2651040" cy="30211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                       </a:t>
            </a:r>
            <a:r>
              <a:rPr b="1" lang="sr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Лева колопластика једњака </a:t>
            </a:r>
            <a:br>
              <a:rPr sz="3200"/>
            </a:br>
            <a:r>
              <a:rPr b="1" lang="sr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  </a:t>
            </a:r>
            <a:r>
              <a:rPr b="1" lang="sr-Latn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(</a:t>
            </a:r>
            <a:r>
              <a:rPr b="1" lang="sr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лигатура десне и средње количне артерије </a:t>
            </a:r>
            <a:r>
              <a:rPr b="1" lang="sr-Latn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)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1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0F622-7BA5-463D-A298-C965E6CF096B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7" descr="radBE474.jpg"/>
          <p:cNvPicPr/>
          <p:nvPr/>
        </p:nvPicPr>
        <p:blipFill>
          <a:blip r:embed="rId1"/>
          <a:stretch/>
        </p:blipFill>
        <p:spPr>
          <a:xfrm>
            <a:off x="0" y="3214800"/>
            <a:ext cx="5500800" cy="36432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radF1383.jpg"/>
          <p:cNvPicPr/>
          <p:nvPr/>
        </p:nvPicPr>
        <p:blipFill>
          <a:blip r:embed="rId2"/>
          <a:stretch/>
        </p:blipFill>
        <p:spPr>
          <a:xfrm>
            <a:off x="5500800" y="1143000"/>
            <a:ext cx="3643200" cy="27320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rad67A55.jpg"/>
          <p:cNvPicPr/>
          <p:nvPr/>
        </p:nvPicPr>
        <p:blipFill>
          <a:blip r:embed="rId3"/>
          <a:stretch/>
        </p:blipFill>
        <p:spPr>
          <a:xfrm>
            <a:off x="0" y="1143000"/>
            <a:ext cx="5508720" cy="2089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0" descr="rad1DAE8.jpg"/>
          <p:cNvPicPr/>
          <p:nvPr/>
        </p:nvPicPr>
        <p:blipFill>
          <a:blip r:embed="rId4"/>
          <a:stretch/>
        </p:blipFill>
        <p:spPr>
          <a:xfrm>
            <a:off x="5508720" y="3857760"/>
            <a:ext cx="3635280" cy="30002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Варикси једњак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0" y="856800"/>
            <a:ext cx="9144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тоанатомија: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субмукозни варикозитети доње трећине једњака и проксималног желуца. Портна хипертензиј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иничка слика: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ироза јетре, спленомегалија, искрварење хематемезом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јагностика: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TG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–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акунарна расветљења на езофагографији, спленопортографија, ендоскопиј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C742F-EE8A-4300-9802-00C45D591394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Л</a:t>
            </a:r>
            <a:r>
              <a:rPr b="1" lang="sr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ечење варикса једњак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0" y="107136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тно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Blekmor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–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ngstaken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– ова сонд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нзервативно: куративна ендоскопија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клерозација варикс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ективна хируршка интервенциј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Ш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нтови: спленоренални, портокавални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тралуминална трансекција једњак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agiura,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tagava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7D36A-EC39-4EFC-91DB-5D76D9399C1C}" type="slidenum">
              <a:rPr b="0" lang="sr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5788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во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Варикси колона</a:t>
            </a:r>
            <a:br>
              <a:rPr sz="2400"/>
            </a:b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сно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Пласирање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Blackemore</a:t>
            </a:r>
            <a:r>
              <a:rPr b="1" lang="sr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–</a:t>
            </a:r>
            <a:r>
              <a:rPr b="1" lang="sr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Sengstaken</a:t>
            </a:r>
            <a:r>
              <a:rPr b="1" lang="sr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– ове сонде</a:t>
            </a:r>
            <a:br>
              <a:rPr sz="2400"/>
            </a:b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1D12E-7000-430F-AE54-863B959EAAEB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6" descr="rad32D04.jpg"/>
          <p:cNvPicPr/>
          <p:nvPr/>
        </p:nvPicPr>
        <p:blipFill>
          <a:blip r:embed="rId1"/>
          <a:stretch/>
        </p:blipFill>
        <p:spPr>
          <a:xfrm>
            <a:off x="5429160" y="0"/>
            <a:ext cx="3714840" cy="43657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radE45C4.jpg"/>
          <p:cNvPicPr/>
          <p:nvPr/>
        </p:nvPicPr>
        <p:blipFill>
          <a:blip r:embed="rId2"/>
          <a:stretch/>
        </p:blipFill>
        <p:spPr>
          <a:xfrm>
            <a:off x="0" y="1579680"/>
            <a:ext cx="5429160" cy="52783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8" descr="rad1117A.jpg"/>
          <p:cNvPicPr/>
          <p:nvPr/>
        </p:nvPicPr>
        <p:blipFill>
          <a:blip r:embed="rId3"/>
          <a:stretch/>
        </p:blipFill>
        <p:spPr>
          <a:xfrm>
            <a:off x="2771640" y="4338720"/>
            <a:ext cx="6372360" cy="25192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К</a:t>
            </a:r>
            <a:r>
              <a:rPr b="1" lang="sr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ардиоспазам </a:t>
            </a:r>
            <a:r>
              <a:rPr b="1" lang="sr-Latn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-</a:t>
            </a:r>
            <a:r>
              <a:rPr b="1" lang="sr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Achalasia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тологија:</a:t>
            </a:r>
            <a:r>
              <a:rPr b="1" lang="sr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егенерација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lexus myentericus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а у субмукози дисталног дела једњака са стенозом и проксималном дилатацијо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4f0fc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иничка слика - четири стадију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ункционални спазми, поремећај перисталтике са езофагограм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ални спазам са дисфагијом, дилатација једњака са езофагограм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рганска стеноза са фиброзом мускулатуре дисталног дела једњака, изражена дилатација једњака, регургитација и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etor ex ore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ефинитивна фиброзна стеноза на кардији, једњак тортуозан у виду вадичеп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2763B-F4C7-4097-8D21-26A6BBC99179}" type="slidenum">
              <a:rPr b="0" lang="sr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Д</a:t>
            </a:r>
            <a:r>
              <a:rPr b="1" lang="sr-CS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ијагностика ахалазиј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офагограм: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идроаерични ниво, левкасти прекид баријума на кардији, ирегуларна перисталтика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тахолински тест: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њекција метахолинхлорида даје снажну контракцију једњака са ретростерналним болом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офагоманометриј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бероптичка езофагоскопиј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оендоскопиј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B096-443C-4E1A-AFC6-D72168955402}" type="slidenum">
              <a:rPr b="0" lang="sr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Л</a:t>
            </a:r>
            <a:r>
              <a:rPr b="1" lang="sr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ечење</a:t>
            </a:r>
            <a:r>
              <a:rPr b="1" lang="sr-Latn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ахалазиј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0" y="785520"/>
            <a:ext cx="91440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нзервативно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дикаментозно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атропин, папаверин, глукагон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атације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бужирања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прва два стадијума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руршко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страмукозна кардиотомија са антирефлуксним поступком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eller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–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or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FF2D3-7FFB-4EF8-BFBD-1FC3459531C7}" type="slidenum">
              <a:rPr b="0" lang="sr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21164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К</a:t>
            </a:r>
            <a:r>
              <a:rPr b="1" lang="sr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линички изглед и операција ахалазије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7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9AA3B-60E7-4454-BB97-1C60427D492E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6" descr="radE5964.jpg"/>
          <p:cNvPicPr/>
          <p:nvPr/>
        </p:nvPicPr>
        <p:blipFill>
          <a:blip r:embed="rId1"/>
          <a:stretch/>
        </p:blipFill>
        <p:spPr>
          <a:xfrm>
            <a:off x="4214880" y="0"/>
            <a:ext cx="4929120" cy="33577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rad4A8CA.jpg"/>
          <p:cNvPicPr/>
          <p:nvPr/>
        </p:nvPicPr>
        <p:blipFill>
          <a:blip r:embed="rId2"/>
          <a:stretch/>
        </p:blipFill>
        <p:spPr>
          <a:xfrm>
            <a:off x="0" y="1428840"/>
            <a:ext cx="4214880" cy="54291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rad418B9.jpg"/>
          <p:cNvPicPr/>
          <p:nvPr/>
        </p:nvPicPr>
        <p:blipFill>
          <a:blip r:embed="rId3"/>
          <a:stretch/>
        </p:blipFill>
        <p:spPr>
          <a:xfrm>
            <a:off x="4214880" y="3357720"/>
            <a:ext cx="4929120" cy="35002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Е</a:t>
            </a:r>
            <a:r>
              <a:rPr b="1" lang="sr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зофагеални синдром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офагеални бол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ретростернални бол ангинозног типа без пратећих коронарних симптома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д рефлукс езофагитис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д поремећаја мотилитета једња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д хијатус херниј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варење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матемез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рикозитети једња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дром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Mallory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e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куси кардије и једњака код рефлукс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ретов једња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0F9C4-EA74-4840-A81D-BCBF79D93D37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Д</a:t>
            </a:r>
            <a:r>
              <a:rPr b="1" lang="sr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ивертикулуми једњак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571680"/>
            <a:ext cx="914400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лзиони: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амилијарни, чешћи код же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кциони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рвикални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enker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3 %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улзиони пролапс мукозе, чешћи са леве стране, дисфагија, регургитација,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etor ex o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мпликациј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ерфорациј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дијастинитис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офагеална фистула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пирација у гркља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D660B-AEE4-4CD2-9568-F5A026ECB277}" type="slidenum">
              <a:rPr b="0" lang="sr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Л</a:t>
            </a:r>
            <a:r>
              <a:rPr b="1" lang="sr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ечење дивертикулум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0" y="107136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руршка аблација дивертулум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тура једњака по слојевима 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“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ouch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” 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леур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кциони се не оперишу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нкеров се оперише што пр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ифренични се оперише електи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но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07E9F-5D0A-4611-84B1-3596E7410B73}" type="slidenum">
              <a:rPr b="0" lang="sr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Рефлукс езофагитис</a:t>
            </a:r>
            <a:r>
              <a:rPr b="1" lang="sr-Latn-CS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“</a:t>
            </a:r>
            <a:r>
              <a:rPr b="1" lang="sr-CS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GERD</a:t>
            </a:r>
            <a:r>
              <a:rPr b="1" lang="sr-CS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i="1" lang="sr-Latn-CS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”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56800"/>
            <a:ext cx="9144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</a:t>
            </a: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тоанатомија</a:t>
            </a:r>
            <a:r>
              <a:rPr b="1" lang="sr-Latn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флукс у једњак пепсина и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HCL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жучи, панкреасног сока, дуоденалног сок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тофизиологија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четком двадесетог века (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mperi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–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kelstein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</a:t>
            </a: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ничка слика</a:t>
            </a:r>
            <a:r>
              <a:rPr b="1" lang="sr-Latn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зофагеални бол, хематемеза, пратећа хијатус хернија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ilespie -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ompson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254D0-E55B-4245-B7B7-DA5C451CA580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Д</a:t>
            </a:r>
            <a:r>
              <a:rPr b="1" lang="sr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ијагностика</a:t>
            </a:r>
            <a:r>
              <a:rPr b="1" lang="en-U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GERD</a:t>
            </a:r>
            <a:r>
              <a:rPr b="1" lang="sr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-</a:t>
            </a:r>
            <a:r>
              <a:rPr b="1" lang="sr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0" y="6429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бероптичка ендоскопиј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адијуми боле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.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перемиј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бринозно запаљењ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.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озије и улцерације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.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финитивна стеноза, малигните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инерадиографија у Тренделенбургов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ложај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нометрија једња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h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метрија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ест ацидног чишћењ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диоизотопски тес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ernstein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–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в тес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F5245-97A3-4086-9D0A-63036AE3A01D}" type="slidenum">
              <a:rPr b="0" lang="sr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К</a:t>
            </a:r>
            <a:r>
              <a:rPr b="1" lang="sr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омпликације</a:t>
            </a:r>
            <a:r>
              <a:rPr b="1" lang="sr-Latn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GERD</a:t>
            </a:r>
            <a:r>
              <a:rPr b="1" lang="sr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-</a:t>
            </a:r>
            <a:r>
              <a:rPr b="1" lang="sr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213920"/>
            <a:ext cx="91440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финитивн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 с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еноза дисталног једњака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у могуће дилатације и бужирањ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зофагеални улкус са хематемезом и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ерфорацијом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rret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 једњак са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лкусом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денокарцином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avary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v улкус високо на једњаку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планоцелуларни  карцином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ctr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83C29-3CE2-4846-B194-294CB91548E8}" type="slidenum">
              <a:rPr b="0" lang="sr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9144000" cy="257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М</a:t>
            </a:r>
            <a:r>
              <a:rPr b="1" lang="sr-CS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едикаментозно лечење рефлукса</a:t>
            </a:r>
            <a:br>
              <a:rPr sz="2800"/>
            </a:br>
            <a:br>
              <a:rPr sz="2800"/>
            </a:b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игијенско – дијететски третман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мршављење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исоко узглавље, апстиненција од алкохола, кафе, пикантне хране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антациди, блокатори секреције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HCL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0" y="3142800"/>
            <a:ext cx="91440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1" lang="sr-Latn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П</a:t>
            </a:r>
            <a:r>
              <a:rPr b="1" lang="sr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ревенциј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бећи дуготрајне тубаже желуц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чити опстипацију и друге узроке метеоризм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чење и превенција компликација улкусне болест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30442-9E27-4B41-A2E5-3FDA10959EB2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4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Т</a:t>
            </a:r>
            <a:r>
              <a:rPr b="1" lang="sr-CS" sz="4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умори једњак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85920"/>
            <a:ext cx="91440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1.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И</a:t>
            </a:r>
            <a:r>
              <a:rPr b="1" lang="sr-C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нтрамурални</a:t>
            </a:r>
            <a:r>
              <a:rPr b="1" lang="sr-Latn-C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(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мукозни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ејомиом на петељци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70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%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липи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иброми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ибромиоми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емангиоми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урофиброми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имфангиоми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стеоходроми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2.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И</a:t>
            </a:r>
            <a:r>
              <a:rPr b="1" lang="sr-C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нтрамурални</a:t>
            </a:r>
            <a:r>
              <a:rPr b="1" lang="sr-Latn-C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(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екстрамукозни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1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пиломи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деноми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кривени мукозом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лигно алтерирају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7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7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1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6D36A-8575-4573-BE89-7CB448BD3984}" type="slidenum">
              <a:rPr b="0" lang="sr-Latn-CS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Т</a:t>
            </a:r>
            <a:r>
              <a:rPr b="1" lang="sr-CS" sz="4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умори једњак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0" y="107136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тенционе цисте: интрамуралне, субмукозне, мултипл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нгениталне цисте: дермоидне, параезофагеалне, ентероген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иброми: широка база, слузокожа улцерира на њима, јако крвар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иоми: доња трећина једњака, дају стенозе својим циркуларним растом, учесталост 0,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0,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8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%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62326-F95A-4A21-8456-CF865A481185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916000" y="0"/>
            <a:ext cx="62276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Л</a:t>
            </a:r>
            <a:r>
              <a:rPr b="1" lang="sr-CS" sz="24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еиомиом и карцином једњака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8F9B8-DA05-4D54-9CFA-A0CE4B5A626C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6" descr="rad4600C.jpg"/>
          <p:cNvPicPr/>
          <p:nvPr/>
        </p:nvPicPr>
        <p:blipFill>
          <a:blip r:embed="rId1"/>
          <a:stretch/>
        </p:blipFill>
        <p:spPr>
          <a:xfrm>
            <a:off x="0" y="0"/>
            <a:ext cx="2921040" cy="6858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7" descr="rad0377C.jpg"/>
          <p:cNvPicPr/>
          <p:nvPr/>
        </p:nvPicPr>
        <p:blipFill>
          <a:blip r:embed="rId2"/>
          <a:stretch/>
        </p:blipFill>
        <p:spPr>
          <a:xfrm>
            <a:off x="2916360" y="642960"/>
            <a:ext cx="6227640" cy="62150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Л</a:t>
            </a:r>
            <a:r>
              <a:rPr b="1" lang="sr-CS" sz="32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ечење бенигних</a:t>
            </a:r>
            <a:r>
              <a:rPr b="1" lang="sr-Latn-CS" sz="32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1" lang="sr-CS" sz="32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тумора једњака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 треба журити са операцијом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липи се лако скидају ендоскопски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јчешће хируршке интервенције су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1.</a:t>
            </a:r>
            <a:r>
              <a:rPr b="1" lang="en-US" sz="36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стралуминална енуклеација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нгениталне цисте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2.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Л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кална интралуминална ексцизија са сутуром једњака пач пластиком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3.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секције једњака потребне код ентерогених цисти и великих крварећих тумор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60450-68BE-4FF8-936F-AD0773F34C4F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Д</a:t>
            </a:r>
            <a:r>
              <a:rPr b="1" lang="sr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ијагностика обољења једњака</a:t>
            </a:r>
            <a:r>
              <a:rPr b="1" lang="en-U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0" y="928800"/>
            <a:ext cx="91440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нтген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зофагограм са баријумом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ме евакуације болус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1О се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унд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нтуре лумена и перисталтик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љеф мукозе и пролазнос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ст у Тренделенбургу на хијатус херниј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бероптичка ендоскопија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јагностичк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иопсије карцином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ојење јодом код рефлукс езофагитиса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 Баретовог улкуса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ративн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клерозација варикс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липектомија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ометрија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ерење притисака у лумену и на сфинтерима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ffffff"/>
                </a:solidFill>
                <a:latin typeface="Arial"/>
              </a:rPr>
              <a:t> </a:t>
            </a:r>
            <a:fld id="{275BF557-82E6-487A-B4AD-5C67DBC174A9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32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П</a:t>
            </a:r>
            <a:r>
              <a:rPr b="1" lang="sr-CS" sz="32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риступи једњаку за туморектомију</a:t>
            </a:r>
            <a:br>
              <a:rPr sz="3200"/>
            </a:b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</a:t>
            </a:r>
            <a:r>
              <a:rPr b="1" lang="sr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во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r>
              <a:rPr b="1" lang="sr-Latn-CS" sz="2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Лева цервикотомија</a:t>
            </a:r>
            <a:r>
              <a:rPr b="1" lang="sr-Latn-CS" sz="2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</a:t>
            </a:r>
            <a:r>
              <a:rPr b="1" lang="sr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дина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r>
              <a:rPr b="1" lang="sr-Latn-CS" sz="2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П</a:t>
            </a:r>
            <a:r>
              <a:rPr b="1" lang="en-US" sz="2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о</a:t>
            </a:r>
            <a:r>
              <a:rPr b="1" lang="sr-Latn-CS" sz="2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Garlock </a:t>
            </a:r>
            <a:r>
              <a:rPr b="1" lang="sr-Latn-CS" sz="2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–</a:t>
            </a:r>
            <a:r>
              <a:rPr b="1" lang="sr-CS" sz="2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у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</a:t>
            </a:r>
            <a:r>
              <a:rPr b="1" lang="sr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сно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r>
              <a:rPr b="1" lang="sr-Latn-CS" sz="2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П</a:t>
            </a:r>
            <a:r>
              <a:rPr b="1" lang="en-US" sz="2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о</a:t>
            </a:r>
            <a:r>
              <a:rPr b="1" lang="sr-Latn-CS" sz="2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Belse</a:t>
            </a:r>
            <a:r>
              <a:rPr b="1" lang="sr-Latn-CS" sz="2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y</a:t>
            </a:r>
            <a:r>
              <a:rPr b="1" lang="en-US" sz="2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</a:t>
            </a:r>
            <a:r>
              <a:rPr b="1" lang="sr-Latn-CS" sz="2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–</a:t>
            </a:r>
            <a:r>
              <a:rPr b="1" lang="en-US" sz="2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у</a:t>
            </a:r>
            <a:r>
              <a:rPr b="1" lang="sr-Latn-CS" sz="2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3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376F2-FB5B-4936-936B-FBC7BD00BB84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7" descr="radF260D.jpg"/>
          <p:cNvPicPr/>
          <p:nvPr/>
        </p:nvPicPr>
        <p:blipFill>
          <a:blip r:embed="rId1"/>
          <a:stretch/>
        </p:blipFill>
        <p:spPr>
          <a:xfrm>
            <a:off x="0" y="1643040"/>
            <a:ext cx="3000240" cy="52149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8" descr="rad07CFD.jpg"/>
          <p:cNvPicPr/>
          <p:nvPr/>
        </p:nvPicPr>
        <p:blipFill>
          <a:blip r:embed="rId2"/>
          <a:stretch/>
        </p:blipFill>
        <p:spPr>
          <a:xfrm>
            <a:off x="6643800" y="1643040"/>
            <a:ext cx="2500200" cy="52149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9" descr="radBA1ED.jpg"/>
          <p:cNvPicPr/>
          <p:nvPr/>
        </p:nvPicPr>
        <p:blipFill>
          <a:blip r:embed="rId3"/>
          <a:stretch/>
        </p:blipFill>
        <p:spPr>
          <a:xfrm>
            <a:off x="3000240" y="1643040"/>
            <a:ext cx="3643560" cy="52149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М</a:t>
            </a:r>
            <a:r>
              <a:rPr b="1" lang="sr-CS" sz="4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алигни тумори једњак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новне карактеристике хирургије тумора једњак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раст инциденце малигнома једњака у модерном друштву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уицидне корозије, пушење, алкохол, зрачење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мпликована дијагностика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ендоскопије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CT,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иопсије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UZ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лике и тешке хируршке интервенциј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740AB-01FA-4CE6-9510-774BBC2BD83D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У</a:t>
            </a:r>
            <a:r>
              <a:rPr b="1" lang="sr-CS" sz="4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честалост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бији на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00.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000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ановника умире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4 - 5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соба годишње од малигнома једња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шкарци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: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жене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4, 5 : 1, 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6.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7. 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еценији живот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лигноми једњака чине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1%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д свих малигнома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4 %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д свих малигнома дигестивног тракт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ну и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и највећа учесталос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зо метастазирају локално и регионалн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калне метастазе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43 % 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 регионалне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35 %,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ез мета промена у тренутку операције само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22 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A1CC6-A935-4E98-9AAD-A899B6FA65EE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П</a:t>
            </a:r>
            <a:r>
              <a:rPr b="1" lang="sr-CS" sz="4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атохистолошка подела</a:t>
            </a:r>
            <a:r>
              <a:rPr b="1" lang="sr-Latn-CS" sz="4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00080"/>
            <a:ext cx="91440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аноцелуларни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карцином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95 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енокарциноми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истални једњак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Barret -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в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лкус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али тумори су ретки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леиомиосарком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карциносарком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анапластични и малигни меланом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јчешће локализације планоцелуларног карцинома једњака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дња трећина једњака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5 – 63 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ња трећина једњака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25 – 43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рња трећина једњака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6 – 20 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5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FD12E-C43A-402B-B196-0B1F1383DE4C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Е</a:t>
            </a:r>
            <a:r>
              <a:rPr b="1" lang="sr-CS" sz="4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тиологија</a:t>
            </a:r>
            <a:r>
              <a:rPr b="1" lang="sr-Latn-CS" sz="4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- </a:t>
            </a:r>
            <a:r>
              <a:rPr b="1" lang="sr-CS" sz="4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патогенез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0" y="856800"/>
            <a:ext cx="9144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трозамини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нитрити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 води за пиће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конзерванси меса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на са плеснима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уђ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гљивице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кохол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пушење дувана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врела јела и напици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лови средине и навике стимулишу хиперплазију епитела, његову метаплазију и дисплазију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диспонирајућа стања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флукс езофагитис, ,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Barret –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в једњак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8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4F6F5-5CCA-4305-A1D8-BA3FAC2BE9EC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О</a:t>
            </a:r>
            <a:r>
              <a:rPr b="1" lang="sr-CS" sz="4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нколошке посебност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56800"/>
            <a:ext cx="9144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ирно најчешћа локализација свих тумора једњака је абдоминални део једњака са кардијом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43 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ретману неизбежан мултидисциплинарни онколошки конзилијум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еста преоперативна зрачна терапија код ограничене иноперабилности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–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хватање трахеје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стензивност хируршке терапије одређује субмукозно ширење тумор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нице ресекције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8 - 12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м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знад и испод тумор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psio ex tempore ”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орње и доње линије ресекције лимфних жлезда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1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4D1A3-78EA-4F70-946E-64EB3463DED7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М</a:t>
            </a:r>
            <a:r>
              <a:rPr b="1" lang="sr-CS" sz="24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орфолошки типови малигнома једњака</a:t>
            </a:r>
            <a:r>
              <a:rPr b="1" lang="sr-Latn-CS" sz="24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нгозн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( 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сте у лумен једњак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)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филтративн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 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иркуларно захвата једњак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церозн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 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зофаготрахеалне фистуле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0 % )</a:t>
            </a:r>
            <a:br>
              <a:rPr sz="2000"/>
            </a:b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0" y="1785600"/>
            <a:ext cx="9144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лигноми једњака метастазирају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 80 %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умора у тренутку постављања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ијагнозе имају метастазе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мфогено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рвикална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торакална и абдоминална група жлезда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матогено: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удаљене метастазе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јетра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плућа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кости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мозак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надбубрег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ректно: једњак нема серозу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–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филтрација ларингеалног живца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бронха и трахеје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плућа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перикарда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аорт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ковите метастазе кроз субмукозу: сателитски тумори, чешће проксимално него дистално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ctr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ctr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ctr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4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2F81-9FEA-47A3-AB79-2D5AB6A2BC29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К</a:t>
            </a:r>
            <a:r>
              <a:rPr b="1" lang="sr-CS" sz="4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ључни моменти у дијагностици малигнома једњак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моезофагоскопија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ндоскопско пребојавање луголом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- “ Carcinoma in situ ” 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леда плаж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о ендоскопија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днос тумора са околин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G –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зофагограм: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нгулација осовине једњака говори да је тумор ухватио околне структуре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ging: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икроскопска и Јапанска класификација одређују време и радикалност хируршког лечењ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8BBAF-2C8C-43B3-9569-6310A3E0FE26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57132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        </a:t>
            </a:r>
            <a:r>
              <a:rPr b="1" lang="en-US" sz="28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ЈАПАНСКИ</a:t>
            </a:r>
            <a:r>
              <a:rPr b="1" lang="sr-Latn-CS" sz="28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STAGING </a:t>
            </a:r>
            <a:r>
              <a:rPr b="1" lang="sr-CS" sz="28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- </a:t>
            </a:r>
            <a:r>
              <a:rPr b="1" lang="sr-Latn-CS" sz="28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4 </a:t>
            </a:r>
            <a:r>
              <a:rPr b="1" lang="en-US" sz="28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КРИТЕРИЈУМА</a:t>
            </a:r>
            <a:br>
              <a:rPr sz="2800"/>
            </a:br>
            <a:br>
              <a:rPr sz="2400"/>
            </a:br>
            <a:r>
              <a:rPr b="1" lang="en-US" sz="32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А</a:t>
            </a:r>
            <a:r>
              <a:rPr b="1" lang="sr-Latn-CS" sz="32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–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нетрација кроз зид</a:t>
            </a:r>
            <a:br>
              <a:rPr sz="3200"/>
            </a:br>
            <a:r>
              <a:rPr b="1" lang="sr-Latn-CS" sz="32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N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–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хваћеност лимфних чворова</a:t>
            </a:r>
            <a:br>
              <a:rPr sz="3200"/>
            </a:br>
            <a:r>
              <a:rPr b="1" lang="en-US" sz="32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М</a:t>
            </a:r>
            <a:r>
              <a:rPr b="1" lang="sr-Latn-CS" sz="32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–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аљене метастазе</a:t>
            </a:r>
            <a:br>
              <a:rPr sz="3200"/>
            </a:br>
            <a:r>
              <a:rPr b="1" lang="sr-Latn-CS" sz="32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PL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–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еурална инфилтрација</a:t>
            </a:r>
            <a:br>
              <a:rPr sz="24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0" y="342864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                </a:t>
            </a:r>
            <a:r>
              <a:rPr b="1" lang="en-US" sz="32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М</a:t>
            </a:r>
            <a:r>
              <a:rPr b="1" lang="sr-CS" sz="32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икроскопска класификациј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1.</a:t>
            </a:r>
            <a:r>
              <a:rPr b="1" lang="sr-Latn-CS" sz="32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С</a:t>
            </a:r>
            <a:r>
              <a:rPr b="1" lang="sr-CS" sz="32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тепен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бро диферентован тумор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2.</a:t>
            </a:r>
            <a:r>
              <a:rPr b="1" lang="sr-Latn-CS" sz="32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С</a:t>
            </a:r>
            <a:r>
              <a:rPr b="1" lang="sr-CS" sz="32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тепен </a:t>
            </a:r>
            <a:r>
              <a:rPr b="1" lang="sr-Latn-CS" sz="32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дње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иферентован тумор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3.</a:t>
            </a:r>
            <a:r>
              <a:rPr b="1" lang="sr-Latn-CS" sz="32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С</a:t>
            </a:r>
            <a:r>
              <a:rPr b="1" lang="sr-CS" sz="32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тепен </a:t>
            </a:r>
            <a:r>
              <a:rPr b="1" lang="sr-Latn-CS" sz="32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або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иферентован тумор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4.</a:t>
            </a:r>
            <a:r>
              <a:rPr b="1" lang="sr-Latn-CS" sz="32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С</a:t>
            </a:r>
            <a:r>
              <a:rPr b="1" lang="sr-CS" sz="32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тепен </a:t>
            </a:r>
            <a:r>
              <a:rPr b="1" lang="sr-Latn-CS" sz="32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диферентован тумор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067A1-AFB7-4F07-A8FB-A0CA734750F1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14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32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Ј</a:t>
            </a:r>
            <a:r>
              <a:rPr b="1" lang="sr-CS" sz="32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апанска класификација тумора једљака</a:t>
            </a:r>
            <a:r>
              <a:rPr b="1" lang="sr-Latn-CS" sz="32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r>
              <a:rPr b="1" lang="sr-Latn-CS" sz="2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           ( </a:t>
            </a:r>
            <a:r>
              <a:rPr b="1" lang="en-US" sz="2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ЈСЕD</a:t>
            </a:r>
            <a:r>
              <a:rPr b="1" lang="sr-Latn-CS" sz="2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- </a:t>
            </a:r>
            <a:r>
              <a:rPr b="1" lang="en-US" sz="2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JAPONESЕ</a:t>
            </a:r>
            <a:r>
              <a:rPr b="1" lang="sr-Latn-CS" sz="2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СОCIЕT</a:t>
            </a:r>
            <a:r>
              <a:rPr b="1" lang="sr-Latn-CS" sz="2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Y </a:t>
            </a:r>
            <a:r>
              <a:rPr b="1" lang="en-US" sz="2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FОR</a:t>
            </a:r>
            <a:r>
              <a:rPr b="1" lang="sr-Latn-CS" sz="2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Е</a:t>
            </a:r>
            <a:r>
              <a:rPr b="1" lang="sr-Latn-CS" sz="2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S</a:t>
            </a:r>
            <a:r>
              <a:rPr b="1" lang="en-US" sz="2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ОPHАGЕАL</a:t>
            </a:r>
            <a:r>
              <a:rPr b="1" lang="sr-Latn-CS" sz="2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DISЕАSЕ</a:t>
            </a:r>
            <a:r>
              <a:rPr b="1" lang="sr-Latn-CS" sz="2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) 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О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- </a:t>
            </a:r>
            <a:r>
              <a:rPr b="1" lang="sr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 захвата адвентицију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ОМ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 - </a:t>
            </a:r>
            <a:r>
              <a:rPr b="1" lang="sr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енетрација до 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scularis mucosae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 - </a:t>
            </a:r>
            <a:r>
              <a:rPr b="1" lang="sr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о адвентиције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 - </a:t>
            </a:r>
            <a:r>
              <a:rPr b="1" lang="sr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хвата адвентицију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 - </a:t>
            </a:r>
            <a:r>
              <a:rPr b="1" lang="sr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хвата иколне структуре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2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96B2C-0788-4057-BB94-06E87678C51D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0" y="2786040"/>
          <a:ext cx="9144000" cy="4071960"/>
        </p:xfrm>
        <a:graphic>
          <a:graphicData uri="http://schemas.openxmlformats.org/drawingml/2006/table">
            <a:tbl>
              <a:tblPr/>
              <a:tblGrid>
                <a:gridCol w="2781360"/>
                <a:gridCol w="1590480"/>
                <a:gridCol w="1590840"/>
                <a:gridCol w="1590480"/>
                <a:gridCol w="1590840"/>
              </a:tblGrid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Стадијум</a:t>
                      </a:r>
                      <a:r>
                        <a:rPr b="1" lang="sr-Latn-C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sr-C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Latn-C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lang="sr-Latn-C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Latn-C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O  M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sr-Latn-C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Latn-C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1" lang="sr-Latn-C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Latn-C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PL</a:t>
                      </a:r>
                      <a:r>
                        <a:rPr b="1" lang="sr-Latn-C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Latn-C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Стадијум</a:t>
                      </a:r>
                      <a:r>
                        <a:rPr b="1" lang="sr-Latn-C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lang="sr-Latn-C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O  M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sr-Latn-C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Latn-C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1" lang="sr-Latn-C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Latn-C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PL</a:t>
                      </a:r>
                      <a:r>
                        <a:rPr b="1" lang="sr-Latn-C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Latn-C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Стадијум</a:t>
                      </a:r>
                      <a:r>
                        <a:rPr b="1" lang="sr-Latn-C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lang="sr-Latn-C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Latn-C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sr-Latn-C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Latn-C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1" lang="sr-Latn-C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Latn-C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PL</a:t>
                      </a:r>
                      <a:r>
                        <a:rPr b="1" lang="sr-Latn-C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Latn-C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Стадијум</a:t>
                      </a:r>
                      <a:r>
                        <a:rPr b="1" lang="sr-Latn-C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I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lang="sr-Latn-C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Latn-C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sr-Latn-C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Latn-C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1" lang="sr-Latn-C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Latn-C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PL</a:t>
                      </a:r>
                      <a:r>
                        <a:rPr b="1" lang="sr-Latn-C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Latn-C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Стадијум</a:t>
                      </a:r>
                      <a:r>
                        <a:rPr b="1" lang="sr-Latn-C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I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lang="sr-Latn-C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Latn-C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sr-Latn-C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Latn-C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sr-Latn-C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sr-Latn-CS" sz="3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sr-Latn-C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1" lang="sr-Latn-C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PL</a:t>
                      </a:r>
                      <a:r>
                        <a:rPr b="1" lang="sr-Latn-C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Latn-C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Д</a:t>
            </a:r>
            <a:r>
              <a:rPr b="1" lang="sr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ијагностика обољења једњака</a:t>
            </a:r>
            <a:r>
              <a:rPr b="1" lang="en-U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1000080"/>
            <a:ext cx="91440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рија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ерење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иселости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једњаку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д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флукс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зофагитиса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интиграфија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9 Tc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лоидни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створ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ехнецијума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е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бацује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желудац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његов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флукс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једњак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е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гиструје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ама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мером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rnstein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в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ст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ерфузија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једњака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а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0, 1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% HCl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аје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ол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д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флукс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зофагитиса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лкуса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једњаку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 </a:t>
            </a:r>
            <a:fld id="{2B20926B-65B0-4114-818D-D9A1A22437FA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16436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л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r>
              <a:rPr b="1" lang="sr-Latn-CS" sz="24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Т</a:t>
            </a:r>
            <a:r>
              <a:rPr b="1" lang="sr-CS" sz="24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умори средњег торакалног и дисталног једњака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сно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r>
              <a:rPr b="1" lang="sr-Latn-CS" sz="24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П</a:t>
            </a:r>
            <a:r>
              <a:rPr b="1" lang="sr-CS" sz="24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ланоцелуларни и луголом необојени фунгоидни карцином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5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D2658-366D-4305-A5A6-496B4A00C928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Picture 8" descr="rad88F80.jpg"/>
          <p:cNvPicPr/>
          <p:nvPr/>
        </p:nvPicPr>
        <p:blipFill>
          <a:blip r:embed="rId1"/>
          <a:stretch/>
        </p:blipFill>
        <p:spPr>
          <a:xfrm>
            <a:off x="7164360" y="3286080"/>
            <a:ext cx="1979640" cy="35719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9" descr="radA389C.jpg"/>
          <p:cNvPicPr/>
          <p:nvPr/>
        </p:nvPicPr>
        <p:blipFill>
          <a:blip r:embed="rId2"/>
          <a:stretch/>
        </p:blipFill>
        <p:spPr>
          <a:xfrm>
            <a:off x="0" y="1571760"/>
            <a:ext cx="3357720" cy="52862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0" descr="rad62D5E.jpg"/>
          <p:cNvPicPr/>
          <p:nvPr/>
        </p:nvPicPr>
        <p:blipFill>
          <a:blip r:embed="rId3"/>
          <a:stretch/>
        </p:blipFill>
        <p:spPr>
          <a:xfrm>
            <a:off x="3357720" y="1571760"/>
            <a:ext cx="3786120" cy="52862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1" descr="rad0B220.jpg"/>
          <p:cNvPicPr/>
          <p:nvPr/>
        </p:nvPicPr>
        <p:blipFill>
          <a:blip r:embed="rId4"/>
          <a:stretch/>
        </p:blipFill>
        <p:spPr>
          <a:xfrm>
            <a:off x="7143840" y="0"/>
            <a:ext cx="2000160" cy="32860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851280" y="-360"/>
            <a:ext cx="529272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ре лево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</a:t>
            </a:r>
            <a:r>
              <a:rPr b="1" lang="en-US" sz="24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В</a:t>
            </a:r>
            <a:r>
              <a:rPr b="1" lang="sr-CS" sz="24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егетантни и улцерозни тип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ле лево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</a:t>
            </a:r>
            <a:r>
              <a:rPr b="1" lang="en-US" sz="24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П</a:t>
            </a:r>
            <a:r>
              <a:rPr b="1" lang="sr-CS" sz="24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реоперативни </a:t>
            </a:r>
            <a:r>
              <a:rPr b="1" lang="sr-Latn-CS" sz="24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RTG </a:t>
            </a:r>
            <a:r>
              <a:rPr b="1" lang="sr-CS" sz="24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једњака и постоперативни </a:t>
            </a:r>
            <a:r>
              <a:rPr b="1" lang="sr-Latn-CS" sz="24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RTG -</a:t>
            </a:r>
            <a:r>
              <a:rPr b="1" lang="sr-CS" sz="24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гастропластике</a:t>
            </a:r>
            <a:r>
              <a:rPr b="1" lang="sr-Latn-CS" sz="24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	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ле десно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r>
              <a:rPr b="1" lang="sr-Latn-CS" sz="24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П</a:t>
            </a:r>
            <a:r>
              <a:rPr b="1" lang="sr-CS" sz="24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репарати једњака са туморима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1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00EE7-E301-48A5-B59A-06D41F1B5F86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11" descr="rad5AF9E.jpg"/>
          <p:cNvPicPr/>
          <p:nvPr/>
        </p:nvPicPr>
        <p:blipFill>
          <a:blip r:embed="rId1"/>
          <a:stretch/>
        </p:blipFill>
        <p:spPr>
          <a:xfrm>
            <a:off x="6429240" y="3286080"/>
            <a:ext cx="1428840" cy="35719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2" descr="rad8E2AA.jpg"/>
          <p:cNvPicPr/>
          <p:nvPr/>
        </p:nvPicPr>
        <p:blipFill>
          <a:blip r:embed="rId2"/>
          <a:stretch/>
        </p:blipFill>
        <p:spPr>
          <a:xfrm>
            <a:off x="7858080" y="3286080"/>
            <a:ext cx="1285920" cy="35719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3" descr="radEADFC.jpg"/>
          <p:cNvPicPr/>
          <p:nvPr/>
        </p:nvPicPr>
        <p:blipFill>
          <a:blip r:embed="rId3"/>
          <a:stretch/>
        </p:blipFill>
        <p:spPr>
          <a:xfrm>
            <a:off x="4071960" y="3286080"/>
            <a:ext cx="2376360" cy="35719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4" descr="rad9A0CE.jpg"/>
          <p:cNvPicPr/>
          <p:nvPr/>
        </p:nvPicPr>
        <p:blipFill>
          <a:blip r:embed="rId4"/>
          <a:stretch/>
        </p:blipFill>
        <p:spPr>
          <a:xfrm>
            <a:off x="0" y="3286080"/>
            <a:ext cx="2286000" cy="35719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5" descr="radC6A91.jpg"/>
          <p:cNvPicPr/>
          <p:nvPr/>
        </p:nvPicPr>
        <p:blipFill>
          <a:blip r:embed="rId5"/>
          <a:stretch/>
        </p:blipFill>
        <p:spPr>
          <a:xfrm>
            <a:off x="2286000" y="3286080"/>
            <a:ext cx="1785960" cy="35719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6" descr="radC19F0.jpg"/>
          <p:cNvPicPr/>
          <p:nvPr/>
        </p:nvPicPr>
        <p:blipFill>
          <a:blip r:embed="rId6"/>
          <a:stretch/>
        </p:blipFill>
        <p:spPr>
          <a:xfrm>
            <a:off x="0" y="0"/>
            <a:ext cx="2001960" cy="32860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7" descr="rad59ACB.jpg"/>
          <p:cNvPicPr/>
          <p:nvPr/>
        </p:nvPicPr>
        <p:blipFill>
          <a:blip r:embed="rId7"/>
          <a:stretch/>
        </p:blipFill>
        <p:spPr>
          <a:xfrm>
            <a:off x="2000160" y="0"/>
            <a:ext cx="1901880" cy="32860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               </a:t>
            </a:r>
            <a:r>
              <a:rPr b="1" lang="en-US" sz="4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П</a:t>
            </a:r>
            <a:r>
              <a:rPr b="1" lang="sr-CS" sz="4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ринципи хируршког лечења</a:t>
            </a:r>
            <a:br>
              <a:rPr sz="24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мфаденектомија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 17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рупа жлезда врата, грудног коша и абдомена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аљене лимфне метастазе ваде се само када су видљиве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арааорталне, ретропанкреатичне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лијеналне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мезентеријалне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)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2714400"/>
            <a:ext cx="91440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е групе ставова у оперативном третман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стензивне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block *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секције једњака са систематском лимфаденектомијом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iyama,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iner 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офагектомије без торакотомије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ringer 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1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42E9E-0CD7-459F-A89A-D7A2F7EE0A05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Т</a:t>
            </a:r>
            <a:r>
              <a:rPr b="1" lang="sr-CS" sz="4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ри врсте хируршких интервенција</a:t>
            </a:r>
            <a:r>
              <a:rPr b="1" lang="en-US" sz="4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0" y="1285920"/>
            <a:ext cx="91440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К</a:t>
            </a:r>
            <a:r>
              <a:rPr b="1" lang="sr-CS" sz="36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уративне операциј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офагектомија и системска лимфаденектомија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 све три групе код вратног и доње две групе код торакалног дела једњака –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kiyama 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офагектомија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en block *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а околним тикивима плеуре, перикарда, дијафрагме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v. azygos, ductus thoracicus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и све три групе лимфних жлезда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–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kinner 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4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827B0-1C5B-471E-A441-F44E6D3FC18C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Т</a:t>
            </a:r>
            <a:r>
              <a:rPr b="1" lang="sr-CS" sz="4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ри врсте хируршких интервенција</a:t>
            </a:r>
            <a:r>
              <a:rPr b="1" lang="en-US" sz="4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1285920"/>
            <a:ext cx="91440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2.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ијативне операциј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гментне и субтоталне ресекције једњака са лимфаденектомијом видљивих жлезд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сна и лева торакотомија или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* Striping *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рансхијаталн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3.  </a:t>
            </a:r>
            <a:r>
              <a:rPr b="1" lang="sr-Latn-CS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перабилнос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c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рингова протез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c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стростомија само из нужд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c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сер тунелизација тумор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BFC58-FDBF-4DD2-A2AA-0158CA1AA21E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2508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Гастропластике једњака</a:t>
            </a:r>
            <a:r>
              <a:rPr b="1" lang="sr-Latn-CS" sz="4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r>
              <a:rPr b="1" lang="sr-CS" sz="4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након езофагектомиј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0" y="1357200"/>
            <a:ext cx="9144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траторакалне гастропластике и езофагогастроанастомозе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мори доње трећине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апаротомија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тубулација желуца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десна торакотомија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 Ivory - Lewis 1946. 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рвикалне гастропластике и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G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мори доње и средње трећине једњак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цервикотомија и лапаротомија трансхијатално или десном торакотомијом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0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E249A-9F62-4FBE-B3AE-E0BB5B2987BF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Интестиналне пластике једњака</a:t>
            </a:r>
            <a:r>
              <a:rPr b="1" lang="sr-Latn-CS" sz="4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r>
              <a:rPr b="1" lang="sr-CS" sz="4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након езофагектомиј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1142640"/>
            <a:ext cx="9144000" cy="63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лопластике једњака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тростернално или трансхијаталн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Јејунопластике једњак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натомија дозвољава извођење у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43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–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46 %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лучајева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Roux ( 1907. ), Herzen - Lexer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 1911 ), Judin ( 1948. ), Judin – Papo ( 1960. –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970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ехисценције анастомоз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c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 врату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0 – 20 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c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крозе трансплантата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 – 8 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c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мртност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2 – 10 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3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AA180-1AB2-426D-87D5-3C188BFD30C2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Д</a:t>
            </a:r>
            <a:r>
              <a:rPr b="1" lang="sr-CS" sz="4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исталне езофагектомиј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иступи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90f62a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ракотомија са лапаротомијом без френотомије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палијативна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)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онемогућава лимфаденектомиј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90f62a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ракофренолапаротомија је радикалниј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90f62a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офагастроанастомоза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-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– L 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APLER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техника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једнослаојна и двослојна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ЕЈ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90f62a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офагојејуноанастомоза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-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– L 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c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товаскуларни трансплантат цревног сегмент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c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APLER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ехника, ручна, двослојна или једнослојна техни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6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28777-416A-4016-B79E-52D5BA745034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Оперативни поступци код малигнома </a:t>
            </a:r>
            <a:br>
              <a:rPr sz="4000"/>
            </a:br>
            <a:r>
              <a:rPr b="1" lang="sr-CS" sz="4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доње трећине једњак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1357200"/>
            <a:ext cx="9144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стропластика једњака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–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тубулација и транспозиција желуца у грудни кош трансхијаталн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рцијална езофагектомија кроз десну торакотомиј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траторакална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зофагогастроанастомоза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 Ivor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–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wis )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ручна једноскојна и двослојна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STAPLER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ехника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антирефлуксни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MU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дикални захват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-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имфаденектомија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траоперативно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ouch frozen section 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9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58828-0A99-4E39-A002-BD7C497B2053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О</a:t>
            </a:r>
            <a:r>
              <a:rPr b="1" lang="sr-CS" sz="36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перативни поступци код малигнома</a:t>
            </a:r>
            <a:br>
              <a:rPr sz="3600"/>
            </a:br>
            <a:r>
              <a:rPr b="1" lang="sr-CS" sz="36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средњег и горњег дела торакалног једњака</a:t>
            </a:r>
            <a:r>
              <a:rPr b="1" lang="sr-Latn-C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	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0" y="1285920"/>
            <a:ext cx="91440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ијативни поступак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riping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зофагектомија без торакотомиј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нсмедијастинална гастропластика са цервикалном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ГА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- L 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вослојно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једнослојно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икални поступак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бтотална езофагектомија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системтска лимфаденектомија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 Akiyama ) ,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есна торакотомија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лапаротомија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цервикотомија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желудац ретростернално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цервикална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EGA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- 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2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340F2-7696-434C-895D-D12B2FC495AE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914400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ево:</a:t>
            </a:r>
            <a:r>
              <a:rPr b="1" i="1" lang="sr-Latn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PH</a:t>
            </a:r>
            <a:r>
              <a:rPr b="1" lang="sr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-</a:t>
            </a:r>
            <a:r>
              <a:rPr b="1" lang="sr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манометрија</a:t>
            </a:r>
            <a:br>
              <a:rPr sz="2400"/>
            </a:b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есно:</a:t>
            </a:r>
            <a:r>
              <a:rPr b="1" lang="sr-Latn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Е</a:t>
            </a:r>
            <a:r>
              <a:rPr b="1" lang="sr-Latn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зофагограми (</a:t>
            </a:r>
            <a:r>
              <a:rPr b="1" lang="sr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short oesophagus, рефлукс езофагитис код хиjатус херније, стеноза једњака код рефлукса</a:t>
            </a:r>
            <a:r>
              <a:rPr b="1" lang="sr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)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EB6C0-37F1-4493-90AB-C52D8F56BA68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7" descr="rad674F5.jpg"/>
          <p:cNvPicPr/>
          <p:nvPr/>
        </p:nvPicPr>
        <p:blipFill>
          <a:blip r:embed="rId1"/>
          <a:stretch/>
        </p:blipFill>
        <p:spPr>
          <a:xfrm>
            <a:off x="0" y="1357200"/>
            <a:ext cx="4572000" cy="5500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rad45D86.jpg"/>
          <p:cNvPicPr/>
          <p:nvPr/>
        </p:nvPicPr>
        <p:blipFill>
          <a:blip r:embed="rId2"/>
          <a:stretch/>
        </p:blipFill>
        <p:spPr>
          <a:xfrm>
            <a:off x="4572000" y="4214880"/>
            <a:ext cx="4572000" cy="26431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rad2E690.jpg"/>
          <p:cNvPicPr/>
          <p:nvPr/>
        </p:nvPicPr>
        <p:blipFill>
          <a:blip r:embed="rId3"/>
          <a:stretch/>
        </p:blipFill>
        <p:spPr>
          <a:xfrm>
            <a:off x="6948360" y="1341360"/>
            <a:ext cx="2195640" cy="2873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rad09E90.jpg"/>
          <p:cNvPicPr/>
          <p:nvPr/>
        </p:nvPicPr>
        <p:blipFill>
          <a:blip r:embed="rId4"/>
          <a:stretch/>
        </p:blipFill>
        <p:spPr>
          <a:xfrm>
            <a:off x="4572000" y="1341360"/>
            <a:ext cx="2376360" cy="28735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О</a:t>
            </a:r>
            <a:r>
              <a:rPr b="1" lang="sr-CS" sz="32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перативни поступци код малигнома горњег</a:t>
            </a:r>
            <a:r>
              <a:rPr b="1" lang="sr-Latn-CS" sz="32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торакалног и цервикалног дела једњака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ња трећина торакалног дела једња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0f62a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тална езофагектомија трансхијаталн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0f62a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стропластика или колопластика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рансмедијастиналн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рвикални део једња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ripping,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лободни цревни трансплатат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лон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јејунум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) ,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аскуларна анастомоза са великим судовима врат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ripping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 трансхијатална позиција гастропластике или колопластик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5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B108A-20D5-47DC-83D4-CD0BE5215371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Stripping </a:t>
            </a:r>
            <a:r>
              <a:rPr b="1" lang="sr-CS" sz="28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једњака и ретростернална</a:t>
            </a:r>
            <a:r>
              <a:rPr b="1" lang="sr-Latn-CS" sz="28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lang="sr-CS" sz="28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гастропластика по </a:t>
            </a:r>
            <a:r>
              <a:rPr b="1" lang="sr-Latn-CS" sz="28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Akiyami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F1874-3A57-41B3-9327-080A48F06B4C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Picture 6" descr="rad29960.jpg"/>
          <p:cNvPicPr/>
          <p:nvPr/>
        </p:nvPicPr>
        <p:blipFill>
          <a:blip r:embed="rId1"/>
          <a:stretch/>
        </p:blipFill>
        <p:spPr>
          <a:xfrm>
            <a:off x="0" y="1071720"/>
            <a:ext cx="6227640" cy="57862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7" descr="rad7C900.jpg"/>
          <p:cNvPicPr/>
          <p:nvPr/>
        </p:nvPicPr>
        <p:blipFill>
          <a:blip r:embed="rId2"/>
          <a:stretch/>
        </p:blipFill>
        <p:spPr>
          <a:xfrm>
            <a:off x="6215040" y="1071720"/>
            <a:ext cx="2928960" cy="57862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85128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Л</a:t>
            </a:r>
            <a:r>
              <a:rPr b="1" lang="sr-CS" sz="2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ева цервикотомија</a:t>
            </a:r>
            <a:br>
              <a:rPr sz="2000"/>
            </a:br>
            <a:r>
              <a:rPr b="1" lang="sr-Latn-CS" sz="2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О</a:t>
            </a:r>
            <a:r>
              <a:rPr b="1" lang="sr-CS" sz="2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перативни приступ вратном делу једњака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1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8A184-70FE-4B1E-A25B-F586BBF61469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Picture 8" descr="rad357FF.jpg"/>
          <p:cNvPicPr/>
          <p:nvPr/>
        </p:nvPicPr>
        <p:blipFill>
          <a:blip r:embed="rId1"/>
          <a:stretch/>
        </p:blipFill>
        <p:spPr>
          <a:xfrm>
            <a:off x="3851280" y="0"/>
            <a:ext cx="5292720" cy="38577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9" descr="radC319D.jpg"/>
          <p:cNvPicPr/>
          <p:nvPr/>
        </p:nvPicPr>
        <p:blipFill>
          <a:blip r:embed="rId2"/>
          <a:stretch/>
        </p:blipFill>
        <p:spPr>
          <a:xfrm>
            <a:off x="0" y="1071720"/>
            <a:ext cx="3857760" cy="27860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0" descr="rad9B7CA.jpg"/>
          <p:cNvPicPr/>
          <p:nvPr/>
        </p:nvPicPr>
        <p:blipFill>
          <a:blip r:embed="rId3"/>
          <a:stretch/>
        </p:blipFill>
        <p:spPr>
          <a:xfrm>
            <a:off x="0" y="3857760"/>
            <a:ext cx="3571920" cy="300024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1" descr="rad5554D.jpg"/>
          <p:cNvPicPr/>
          <p:nvPr/>
        </p:nvPicPr>
        <p:blipFill>
          <a:blip r:embed="rId4"/>
          <a:stretch/>
        </p:blipFill>
        <p:spPr>
          <a:xfrm>
            <a:off x="3571920" y="3857760"/>
            <a:ext cx="5572080" cy="30002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571840" y="-360"/>
            <a:ext cx="6572160" cy="35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Реконструкције након радикалне операције   абдоминалног дела једњака и кардије </a:t>
            </a:r>
            <a:br>
              <a:rPr sz="2000"/>
            </a:b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ево горе : </a:t>
            </a:r>
            <a:r>
              <a:rPr b="1" lang="sr-Latn-CS" sz="28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(</a:t>
            </a:r>
            <a:r>
              <a:rPr b="1" lang="sr-CS" sz="28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Longmire</a:t>
            </a:r>
            <a:r>
              <a:rPr b="1" lang="sr-CS" sz="28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-</a:t>
            </a:r>
            <a:r>
              <a:rPr b="1" lang="sr-CS" sz="28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Beal</a:t>
            </a:r>
            <a:r>
              <a:rPr b="1" lang="sr-CS" sz="28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)</a:t>
            </a:r>
            <a:br>
              <a:rPr sz="2800"/>
            </a:b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ево доле: </a:t>
            </a:r>
            <a:r>
              <a:rPr b="1" lang="sr-Latn-CS" sz="28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(</a:t>
            </a:r>
            <a:r>
              <a:rPr b="1" lang="sr-CS" sz="28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Nissen</a:t>
            </a:r>
            <a:r>
              <a:rPr b="1" lang="sr-CS" sz="28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–</a:t>
            </a:r>
            <a:r>
              <a:rPr b="1" lang="sr-CS" sz="28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Stulhofer</a:t>
            </a:r>
            <a:r>
              <a:rPr b="1" lang="sr-CS" sz="28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) </a:t>
            </a:r>
            <a:br>
              <a:rPr sz="2800"/>
            </a:b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есно доле: </a:t>
            </a:r>
            <a:r>
              <a:rPr b="1" lang="sr-Latn-CS" sz="28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(</a:t>
            </a:r>
            <a:r>
              <a:rPr b="1" lang="sr-CS" sz="28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Siewert</a:t>
            </a:r>
            <a:r>
              <a:rPr b="1" lang="sr-CS" sz="28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)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7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60972-0635-423F-A0AB-DCF204C52A9D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Picture 8" descr="rad5A37E.jpg"/>
          <p:cNvPicPr/>
          <p:nvPr/>
        </p:nvPicPr>
        <p:blipFill>
          <a:blip r:embed="rId1"/>
          <a:stretch/>
        </p:blipFill>
        <p:spPr>
          <a:xfrm>
            <a:off x="0" y="3571920"/>
            <a:ext cx="3214800" cy="32860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9" descr="rad852DC.jpg"/>
          <p:cNvPicPr/>
          <p:nvPr/>
        </p:nvPicPr>
        <p:blipFill>
          <a:blip r:embed="rId2"/>
          <a:stretch/>
        </p:blipFill>
        <p:spPr>
          <a:xfrm>
            <a:off x="0" y="-100080"/>
            <a:ext cx="2554200" cy="36720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0" descr="rad21C71.jpg"/>
          <p:cNvPicPr/>
          <p:nvPr/>
        </p:nvPicPr>
        <p:blipFill>
          <a:blip r:embed="rId3"/>
          <a:stretch/>
        </p:blipFill>
        <p:spPr>
          <a:xfrm>
            <a:off x="5076720" y="3573360"/>
            <a:ext cx="4067280" cy="32846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1" descr="rad97812.jpg"/>
          <p:cNvPicPr/>
          <p:nvPr/>
        </p:nvPicPr>
        <p:blipFill>
          <a:blip r:embed="rId4"/>
          <a:stretch/>
        </p:blipFill>
        <p:spPr>
          <a:xfrm>
            <a:off x="3214800" y="3571920"/>
            <a:ext cx="1857240" cy="32860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А</a:t>
            </a:r>
            <a:r>
              <a:rPr b="1" lang="sr-CS" sz="2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утографт танког црева и колона везан артеријом за каротиде или мамарију</a:t>
            </a:r>
            <a:r>
              <a:rPr b="1" lang="en-US" sz="2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</a:t>
            </a:r>
            <a:r>
              <a:rPr b="1" lang="sr-Latn-CS" sz="2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(</a:t>
            </a:r>
            <a:r>
              <a:rPr b="1" lang="sr-CS" sz="2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</a:t>
            </a:r>
            <a:r>
              <a:rPr b="1" lang="sr-Latn-CS" sz="2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Longmire</a:t>
            </a:r>
            <a:r>
              <a:rPr b="1" lang="sr-CS" sz="2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</a:t>
            </a:r>
            <a:r>
              <a:rPr b="1" lang="sr-Latn-CS" sz="2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)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3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52DF0-676D-4EE6-98D3-E5851F40A202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4" name="Picture 7" descr="radD530D.jpg"/>
          <p:cNvPicPr/>
          <p:nvPr/>
        </p:nvPicPr>
        <p:blipFill>
          <a:blip r:embed="rId1"/>
          <a:stretch/>
        </p:blipFill>
        <p:spPr>
          <a:xfrm>
            <a:off x="0" y="3857760"/>
            <a:ext cx="5143680" cy="300024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8" descr="radC299D.jpg"/>
          <p:cNvPicPr/>
          <p:nvPr/>
        </p:nvPicPr>
        <p:blipFill>
          <a:blip r:embed="rId2"/>
          <a:stretch/>
        </p:blipFill>
        <p:spPr>
          <a:xfrm>
            <a:off x="5143680" y="3857760"/>
            <a:ext cx="4000320" cy="30002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9" descr="radBCBC3.jpg"/>
          <p:cNvPicPr/>
          <p:nvPr/>
        </p:nvPicPr>
        <p:blipFill>
          <a:blip r:embed="rId3"/>
          <a:stretch/>
        </p:blipFill>
        <p:spPr>
          <a:xfrm>
            <a:off x="0" y="785880"/>
            <a:ext cx="9144000" cy="30988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Д</a:t>
            </a:r>
            <a:r>
              <a:rPr b="1" lang="sr-CS" sz="32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илатација иноперабилних тумора једњака</a:t>
            </a:r>
            <a:br>
              <a:rPr sz="3200"/>
            </a:br>
            <a:r>
              <a:rPr b="1" lang="sr-CS" sz="32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пласирање ендопротеза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8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2BBB-0014-46FF-83D1-6D7E1F515A31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9" name="Picture 9" descr="rad3824D.jpg"/>
          <p:cNvPicPr/>
          <p:nvPr/>
        </p:nvPicPr>
        <p:blipFill>
          <a:blip r:embed="rId1"/>
          <a:stretch/>
        </p:blipFill>
        <p:spPr>
          <a:xfrm>
            <a:off x="0" y="3643200"/>
            <a:ext cx="2786040" cy="32148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0" descr="radD6820.jpg"/>
          <p:cNvPicPr/>
          <p:nvPr/>
        </p:nvPicPr>
        <p:blipFill>
          <a:blip r:embed="rId2"/>
          <a:stretch/>
        </p:blipFill>
        <p:spPr>
          <a:xfrm>
            <a:off x="2786040" y="1143000"/>
            <a:ext cx="2952720" cy="571500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1" descr="radD2A83.jpg"/>
          <p:cNvPicPr/>
          <p:nvPr/>
        </p:nvPicPr>
        <p:blipFill>
          <a:blip r:embed="rId3"/>
          <a:stretch/>
        </p:blipFill>
        <p:spPr>
          <a:xfrm>
            <a:off x="5715000" y="2928960"/>
            <a:ext cx="3429000" cy="39290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2" descr="rad6FD9E.jpg"/>
          <p:cNvPicPr/>
          <p:nvPr/>
        </p:nvPicPr>
        <p:blipFill>
          <a:blip r:embed="rId4"/>
          <a:stretch/>
        </p:blipFill>
        <p:spPr>
          <a:xfrm>
            <a:off x="5724360" y="1143000"/>
            <a:ext cx="3419640" cy="17859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3" descr="rad5BE81.jpg"/>
          <p:cNvPicPr/>
          <p:nvPr/>
        </p:nvPicPr>
        <p:blipFill>
          <a:blip r:embed="rId5"/>
          <a:stretch/>
        </p:blipFill>
        <p:spPr>
          <a:xfrm>
            <a:off x="0" y="1143000"/>
            <a:ext cx="2786040" cy="25002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И</a:t>
            </a:r>
            <a:r>
              <a:rPr b="1" lang="sr-CS" sz="28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нтубације једњака код иноперабилних тумора </a:t>
            </a:r>
            <a:br>
              <a:rPr sz="2800"/>
            </a:br>
            <a:r>
              <a:rPr b="1" lang="sr-CS" sz="28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и на анастомози са желуцем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B0E29-0151-4222-9E9F-E08867065192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6" name="Picture 6" descr="rad0BD21.jpg"/>
          <p:cNvPicPr/>
          <p:nvPr/>
        </p:nvPicPr>
        <p:blipFill>
          <a:blip r:embed="rId1"/>
          <a:stretch/>
        </p:blipFill>
        <p:spPr>
          <a:xfrm>
            <a:off x="0" y="1000080"/>
            <a:ext cx="4286160" cy="58579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7" descr="rad69882.jpg"/>
          <p:cNvPicPr/>
          <p:nvPr/>
        </p:nvPicPr>
        <p:blipFill>
          <a:blip r:embed="rId2"/>
          <a:stretch/>
        </p:blipFill>
        <p:spPr>
          <a:xfrm>
            <a:off x="4284720" y="1000080"/>
            <a:ext cx="4859280" cy="58579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072040" cy="30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сно доле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r>
              <a:rPr b="1" lang="sr-Latn-CS" sz="28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М</a:t>
            </a:r>
            <a:r>
              <a:rPr b="1" lang="sr-CS" sz="28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одели протеза и стентова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во и десмо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r>
              <a:rPr b="1" lang="sr-Latn-CS" sz="28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П</a:t>
            </a:r>
            <a:r>
              <a:rPr b="1" lang="sr-CS" sz="28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ласирани стентови на малигне стенозе једњака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970D5-D145-4B91-A36A-0A1BA2EF02FF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0" name="Picture 7" descr="radE7FD2.jpg"/>
          <p:cNvPicPr/>
          <p:nvPr/>
        </p:nvPicPr>
        <p:blipFill>
          <a:blip r:embed="rId1"/>
          <a:stretch/>
        </p:blipFill>
        <p:spPr>
          <a:xfrm>
            <a:off x="5786280" y="3071880"/>
            <a:ext cx="3357720" cy="37861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8" descr="rad24770.jpg"/>
          <p:cNvPicPr/>
          <p:nvPr/>
        </p:nvPicPr>
        <p:blipFill>
          <a:blip r:embed="rId2"/>
          <a:stretch/>
        </p:blipFill>
        <p:spPr>
          <a:xfrm>
            <a:off x="0" y="3071880"/>
            <a:ext cx="5796000" cy="37861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9" descr="rad8583F.jpg"/>
          <p:cNvPicPr/>
          <p:nvPr/>
        </p:nvPicPr>
        <p:blipFill>
          <a:blip r:embed="rId3"/>
          <a:stretch/>
        </p:blipFill>
        <p:spPr>
          <a:xfrm>
            <a:off x="4929120" y="0"/>
            <a:ext cx="4214880" cy="30686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П</a:t>
            </a:r>
            <a:r>
              <a:rPr b="1" lang="sr-CS" sz="4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остоперативне компликације</a:t>
            </a:r>
            <a:br>
              <a:rPr sz="4000"/>
            </a:br>
            <a:r>
              <a:rPr b="1" lang="sr-CS" sz="4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езофагектомија и езофагопластик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0" y="1357200"/>
            <a:ext cx="9144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е компликације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ехисценције шавова на анастомозама или трансплататим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сне компликације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енозе анастомоз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рапија дехисценциј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интервенција и дренажа анастомоз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рапија стенозе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ужирање, балон дилатација, ресекција анастомоз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5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721C8-0023-4821-AB89-BA4A5AB1E56F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0767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М</a:t>
            </a:r>
            <a:r>
              <a:rPr b="1" lang="sr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анометрија и</a:t>
            </a:r>
            <a:r>
              <a:rPr b="1" lang="sr-Latn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PH</a:t>
            </a:r>
            <a:r>
              <a:rPr b="1" lang="sr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–</a:t>
            </a:r>
            <a:r>
              <a:rPr b="1" lang="sr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метрија једњака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2B029-0299-4680-A13E-B3EF3EC4C30B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5" descr="radFABF4.jpg"/>
          <p:cNvPicPr/>
          <p:nvPr/>
        </p:nvPicPr>
        <p:blipFill>
          <a:blip r:embed="rId1"/>
          <a:stretch/>
        </p:blipFill>
        <p:spPr>
          <a:xfrm>
            <a:off x="0" y="857160"/>
            <a:ext cx="5143680" cy="6000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rad24891.jpg"/>
          <p:cNvPicPr/>
          <p:nvPr/>
        </p:nvPicPr>
        <p:blipFill>
          <a:blip r:embed="rId2"/>
          <a:stretch/>
        </p:blipFill>
        <p:spPr>
          <a:xfrm>
            <a:off x="5148360" y="0"/>
            <a:ext cx="399564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У</a:t>
            </a:r>
            <a:r>
              <a:rPr b="1" lang="sr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рођене стенозе и фистуле једњак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432DE-9D20-47E3-933F-016D7DC1BA55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5" descr="rad063E0.jpg"/>
          <p:cNvPicPr/>
          <p:nvPr/>
        </p:nvPicPr>
        <p:blipFill>
          <a:blip r:embed="rId1"/>
          <a:stretch/>
        </p:blipFill>
        <p:spPr>
          <a:xfrm>
            <a:off x="0" y="928800"/>
            <a:ext cx="4357800" cy="59292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rad4F333.jpg"/>
          <p:cNvPicPr/>
          <p:nvPr/>
        </p:nvPicPr>
        <p:blipFill>
          <a:blip r:embed="rId2"/>
          <a:stretch/>
        </p:blipFill>
        <p:spPr>
          <a:xfrm>
            <a:off x="4357800" y="928800"/>
            <a:ext cx="4786200" cy="59292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С</a:t>
            </a:r>
            <a:r>
              <a:rPr b="1" lang="sr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трана тела једњак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0" y="357120"/>
            <a:ext cx="91440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ца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млађа од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3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од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е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97240" indent="-59724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расли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старе особе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рвни болесници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97240" indent="-59724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ци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дисфагија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ол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спираторне сметње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97240" indent="-59724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јагностика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рентген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ндоскопија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97240" indent="-59724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мпликације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запаљење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ерфорација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едијастинитис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рахеоезофагеална фистула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97240" indent="-59724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чење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ендоскопска екстракција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перативно одстрањење и сутура једњака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97240" indent="-59724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32B7B-FFD8-4993-8D6E-3692E45687D6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3T22:26:46Z</dcterms:created>
  <dc:creator>Zoran Matovic</dc:creator>
  <dc:description/>
  <dc:language>en-US</dc:language>
  <cp:lastModifiedBy>Boban</cp:lastModifiedBy>
  <dcterms:modified xsi:type="dcterms:W3CDTF">2016-07-13T10:38:39Z</dcterms:modified>
  <cp:revision>210</cp:revision>
  <dc:subject/>
  <dc:title>HIRURGIJA JEDNJAK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