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C0AE-B9F0-4764-AB1F-D0DFA2F8966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74ED-BC8B-43A6-ACEB-C273ACC6D7A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0B5A-2696-4576-BEB1-342DBD724E0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F9E3-52C6-4875-AC53-050D390918A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8227-A691-4766-A668-29A6A9E2B1D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8B44-01C7-4719-935F-35A09AE741B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BEC5-3E52-4B68-918E-1C0DEDFF1D2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872A-6F34-4079-B923-B4C6F8F3D4B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D5C-AC4E-49C4-B269-C9912BCE0F2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3FC2-F51D-4E97-8324-BBDED67FFFF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214A-4F99-48E9-863F-0FBCDE91432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117F-C459-41B8-9773-737B24E80DA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1B35-9893-49B0-9F0B-4BCDA7CF4D1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3F69-95D6-4EF4-A790-2FAABDF6CF9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85CA-9C6E-4D25-AB2F-FC5ABD858D7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70E9-BF80-434E-A94E-D734025A0D9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BB21-EE94-432C-8E90-B327738E1FA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2D20-7E63-4729-ADB3-363FA1BAB66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D604-B26C-49EA-9C9A-08592790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F6CC-302C-4BCA-95E3-603A2345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4349-5E4F-4806-B199-1DEA31B5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673A-2527-4180-8A45-7932122F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295D-F53F-4DCD-8FA5-62BDB626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12C7-6595-4062-B40D-E75C0BD3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55A9-0044-4C70-8BAC-7FA0402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5BD1-9E1F-410C-804B-C9FEB9D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FD72-7713-43BC-9CCA-925164D8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4BAB-D3A4-4E34-AF1F-1DFACCE9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9194-682C-44B4-8E73-7F65B90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54CF-B7D3-4D27-94AB-F02B5F75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DD0D-CB71-4C06-9A43-4C9D786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E19C-BA0B-422F-9695-2B472176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CAF7-0C69-4FA8-9C53-E089A1C7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96D5-C569-45BB-927D-7D9E0CBC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48A6-FE51-449E-BA62-CFFB5211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EA3F-48F8-4DE7-9787-82BE3C0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E783-0668-4CAB-B00F-77BC1033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2423-EF66-485B-ABEA-AD6C3E5D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2142-B4A1-4DB2-9CFB-AD937BB0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756B-908D-4CD7-B9BC-4EAFA446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6D0E-ED23-49C2-A02C-BBC1AED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FF2C-7CDD-4B28-8251-CF1FB1E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6B81-9256-4784-9634-DED7430F8A1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F726-FF31-48E6-A016-6A12E789148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85768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рургија дијафрагм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240" y="5013000"/>
            <a:ext cx="7232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Verdana"/>
              <a:ea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FC4B-E102-4513-9E73-FB6E5D44BDC2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керлунд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ва подела</a:t>
            </a: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тус херн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19700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in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 glisse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клизајућа херн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диоезофагеални спој клизи на го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рављен Хисов угао, релаксирана Губаровљева валву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ика учесталост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RD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а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 90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чење је конзервативн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 код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хируршк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езофагеал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рљајућа херн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дија нормално стоји у трбух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 поред ње клизи на горе фундус или цео желуда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ма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чење је хируршко због претећег укљештења и хроничног волвулуса желу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шани тип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зи кардиј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 поред ње и део желуца у грудни ко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чење је хируршк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0B30-A3A9-4863-B19B-333BB5E53988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racogaster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ин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iding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ернија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раезофагеална херниј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3043-9131-4015-AF82-96FEDA9280E7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6" descr="rad300F6.jpg"/>
          <p:cNvPicPr/>
          <p:nvPr/>
        </p:nvPicPr>
        <p:blipFill>
          <a:blip r:embed="rId1"/>
          <a:stretch/>
        </p:blipFill>
        <p:spPr>
          <a:xfrm>
            <a:off x="0" y="1714680"/>
            <a:ext cx="2714760" cy="5143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rad967D9.jpg"/>
          <p:cNvPicPr/>
          <p:nvPr/>
        </p:nvPicPr>
        <p:blipFill>
          <a:blip r:embed="rId2"/>
          <a:stretch/>
        </p:blipFill>
        <p:spPr>
          <a:xfrm>
            <a:off x="5572080" y="1714680"/>
            <a:ext cx="3571920" cy="514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rad031EB.jpg"/>
          <p:cNvPicPr/>
          <p:nvPr/>
        </p:nvPicPr>
        <p:blipFill>
          <a:blip r:embed="rId3"/>
          <a:stretch/>
        </p:blipFill>
        <p:spPr>
          <a:xfrm>
            <a:off x="2714760" y="1714680"/>
            <a:ext cx="2873160" cy="5143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264348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раезофагеалне херније са антеторакалном хернијацијом желуца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racogaster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D1A1-1888-4815-B38D-8D4CC2E209A1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7" descr="rad29C25.jpg"/>
          <p:cNvPicPr/>
          <p:nvPr/>
        </p:nvPicPr>
        <p:blipFill>
          <a:blip r:embed="rId1"/>
          <a:stretch/>
        </p:blipFill>
        <p:spPr>
          <a:xfrm>
            <a:off x="0" y="3786120"/>
            <a:ext cx="2643120" cy="307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rad9702B.jpg"/>
          <p:cNvPicPr/>
          <p:nvPr/>
        </p:nvPicPr>
        <p:blipFill>
          <a:blip r:embed="rId2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rad4A247.jpg"/>
          <p:cNvPicPr/>
          <p:nvPr/>
        </p:nvPicPr>
        <p:blipFill>
          <a:blip r:embed="rId3"/>
          <a:stretch/>
        </p:blipFill>
        <p:spPr>
          <a:xfrm>
            <a:off x="0" y="0"/>
            <a:ext cx="2500200" cy="26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rad1832A.jpg"/>
          <p:cNvPicPr/>
          <p:nvPr/>
        </p:nvPicPr>
        <p:blipFill>
          <a:blip r:embed="rId4"/>
          <a:stretch/>
        </p:blipFill>
        <p:spPr>
          <a:xfrm>
            <a:off x="2643120" y="3786120"/>
            <a:ext cx="2428920" cy="3071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64000" y="189000"/>
            <a:ext cx="37800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ски прикази односа између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imer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ове мембране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ардиоезофагеалног споја и делова желуца у хернијацијам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E4D5-909D-4AD5-842B-7260FFC49165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7" descr="rad36D68.jpg"/>
          <p:cNvPicPr/>
          <p:nvPr/>
        </p:nvPicPr>
        <p:blipFill>
          <a:blip r:embed="rId1"/>
          <a:stretch/>
        </p:blipFill>
        <p:spPr>
          <a:xfrm>
            <a:off x="7072200" y="3357720"/>
            <a:ext cx="2071800" cy="3500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radDA9C8.jpg"/>
          <p:cNvPicPr/>
          <p:nvPr/>
        </p:nvPicPr>
        <p:blipFill>
          <a:blip r:embed="rId2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rad724E8.jpg"/>
          <p:cNvPicPr/>
          <p:nvPr/>
        </p:nvPicPr>
        <p:blipFill>
          <a:blip r:embed="rId3"/>
          <a:stretch/>
        </p:blipFill>
        <p:spPr>
          <a:xfrm>
            <a:off x="0" y="0"/>
            <a:ext cx="5292720" cy="335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radB9307.jpg"/>
          <p:cNvPicPr/>
          <p:nvPr/>
        </p:nvPicPr>
        <p:blipFill>
          <a:blip r:embed="rId4"/>
          <a:stretch/>
        </p:blipFill>
        <p:spPr>
          <a:xfrm>
            <a:off x="4643280" y="3357720"/>
            <a:ext cx="2413080" cy="350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57600" y="-360"/>
            <a:ext cx="278604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 и рентген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“ 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iding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”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ерније са постоперативним резултатима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9F6-831D-4B5B-8BE0-C3725AF38C20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7" descr="rad8E88C.jpg"/>
          <p:cNvPicPr/>
          <p:nvPr/>
        </p:nvPicPr>
        <p:blipFill>
          <a:blip r:embed="rId1"/>
          <a:stretch/>
        </p:blipFill>
        <p:spPr>
          <a:xfrm>
            <a:off x="4286160" y="3500280"/>
            <a:ext cx="207180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ad931D9.jpg"/>
          <p:cNvPicPr/>
          <p:nvPr/>
        </p:nvPicPr>
        <p:blipFill>
          <a:blip r:embed="rId2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radEB2E7.jpg"/>
          <p:cNvPicPr/>
          <p:nvPr/>
        </p:nvPicPr>
        <p:blipFill>
          <a:blip r:embed="rId3"/>
          <a:stretch/>
        </p:blipFill>
        <p:spPr>
          <a:xfrm>
            <a:off x="6335640" y="3486240"/>
            <a:ext cx="2808360" cy="337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rad5F32B.jpg"/>
          <p:cNvPicPr/>
          <p:nvPr/>
        </p:nvPicPr>
        <p:blipFill>
          <a:blip r:embed="rId4"/>
          <a:stretch/>
        </p:blipFill>
        <p:spPr>
          <a:xfrm>
            <a:off x="4286160" y="0"/>
            <a:ext cx="2071800" cy="350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иничка слика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тус херн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лукс езофагити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к везивања ципела –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ајна регургитац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nt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в тријас: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ециститис и дивертикулоза кол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нични волвулус желу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фагија код стенозе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варење код укљештења праћено болом по типу акутног волвулуса желу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ећа перфорација желуца у медијастинум код укљештења са боло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C80D-9C11-47AF-80A5-B7C1AD4DC0C5}" type="slidenum">
              <a:rPr b="1" i="1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хијатус херн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зерватив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ациди, блокатори секреције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гијенско - дијететски режим (положајна дренажа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руршк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.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ll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ав крура дијафрагме, гастропексија мале кривине за крура дијафраг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б.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ssen: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допликација у виду муфа око 6 см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талног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.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sey: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торакална фундопликација и гастропексија за дијафраг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.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tat Jacob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нструкција Хисовог угла и фундопексија з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јафраг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65F0-2C10-461C-9E9A-848F1DEAEA38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</a:t>
            </a: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едња фундопликација по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D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rr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</a:t>
            </a:r>
            <a:br>
              <a:rPr sz="1800"/>
            </a:b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ина</a:t>
            </a: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дња фундопликација по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oupet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 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кружна по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issen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oseti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ју</a:t>
            </a:r>
            <a:br>
              <a:rPr sz="1800"/>
            </a:b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стропексије по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issen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у</a:t>
            </a:r>
            <a:br>
              <a:rPr sz="20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F59A-3AE7-4CBB-A147-E958BC9CDA32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9" descr="rad54108.jpg"/>
          <p:cNvPicPr/>
          <p:nvPr/>
        </p:nvPicPr>
        <p:blipFill>
          <a:blip r:embed="rId1"/>
          <a:stretch/>
        </p:blipFill>
        <p:spPr>
          <a:xfrm>
            <a:off x="0" y="407196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rad92DC5.jpg"/>
          <p:cNvPicPr/>
          <p:nvPr/>
        </p:nvPicPr>
        <p:blipFill>
          <a:blip r:embed="rId2"/>
          <a:stretch/>
        </p:blipFill>
        <p:spPr>
          <a:xfrm>
            <a:off x="0" y="114300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rad4CF6B.jpg"/>
          <p:cNvPicPr/>
          <p:nvPr/>
        </p:nvPicPr>
        <p:blipFill>
          <a:blip r:embed="rId3"/>
          <a:stretch/>
        </p:blipFill>
        <p:spPr>
          <a:xfrm>
            <a:off x="2928960" y="4071960"/>
            <a:ext cx="2666880" cy="2786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rad6ABF6.jpg"/>
          <p:cNvPicPr/>
          <p:nvPr/>
        </p:nvPicPr>
        <p:blipFill>
          <a:blip r:embed="rId4"/>
          <a:stretch/>
        </p:blipFill>
        <p:spPr>
          <a:xfrm>
            <a:off x="3071880" y="1143000"/>
            <a:ext cx="2571840" cy="2949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rad43C97.jpg"/>
          <p:cNvPicPr/>
          <p:nvPr/>
        </p:nvPicPr>
        <p:blipFill>
          <a:blip r:embed="rId5"/>
          <a:stretch/>
        </p:blipFill>
        <p:spPr>
          <a:xfrm>
            <a:off x="5572080" y="40719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rad2853D.jpg"/>
          <p:cNvPicPr/>
          <p:nvPr/>
        </p:nvPicPr>
        <p:blipFill>
          <a:blip r:embed="rId6"/>
          <a:stretch/>
        </p:blipFill>
        <p:spPr>
          <a:xfrm>
            <a:off x="5643720" y="1143000"/>
            <a:ext cx="3500280" cy="294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нгениталне малформац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ликације дијафраг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лимична или потпу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цесорна дијафраг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ничка слика компресије плућ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рапија хируршк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тност зависи од нивоа поремећаја плућне функц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аксације дијафраг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око положена атрофична дијафрагм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ентрација дијафрагм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ализ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n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renicu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 порођајне трау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одраслих чешћа лев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код деце дес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ење је хируршка корекц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ренопластик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3E4E-88FC-4C81-8198-9862B1F8B381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00240" y="-360"/>
            <a:ext cx="61437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лаксација дијафрагм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 и оперативни третман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6848-A0FA-4E71-BD32-CF37AF3C0A7C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10" descr="radA0A44.jpg"/>
          <p:cNvPicPr/>
          <p:nvPr/>
        </p:nvPicPr>
        <p:blipFill>
          <a:blip r:embed="rId1"/>
          <a:stretch/>
        </p:blipFill>
        <p:spPr>
          <a:xfrm>
            <a:off x="5286240" y="1643040"/>
            <a:ext cx="3857760" cy="3154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rad66989.jpg"/>
          <p:cNvPicPr/>
          <p:nvPr/>
        </p:nvPicPr>
        <p:blipFill>
          <a:blip r:embed="rId2"/>
          <a:stretch/>
        </p:blipFill>
        <p:spPr>
          <a:xfrm>
            <a:off x="6572160" y="478620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rad2D6D6.jpg"/>
          <p:cNvPicPr/>
          <p:nvPr/>
        </p:nvPicPr>
        <p:blipFill>
          <a:blip r:embed="rId3"/>
          <a:stretch/>
        </p:blipFill>
        <p:spPr>
          <a:xfrm>
            <a:off x="0" y="0"/>
            <a:ext cx="2786040" cy="25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rad861A5.jpg"/>
          <p:cNvPicPr/>
          <p:nvPr/>
        </p:nvPicPr>
        <p:blipFill>
          <a:blip r:embed="rId4"/>
          <a:stretch/>
        </p:blipFill>
        <p:spPr>
          <a:xfrm>
            <a:off x="0" y="2571840"/>
            <a:ext cx="2786040" cy="2200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radCED58.jpg"/>
          <p:cNvPicPr/>
          <p:nvPr/>
        </p:nvPicPr>
        <p:blipFill>
          <a:blip r:embed="rId5"/>
          <a:stretch/>
        </p:blipFill>
        <p:spPr>
          <a:xfrm>
            <a:off x="1928880" y="4786200"/>
            <a:ext cx="4680000" cy="20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rad597B9.jpg"/>
          <p:cNvPicPr/>
          <p:nvPr/>
        </p:nvPicPr>
        <p:blipFill>
          <a:blip r:embed="rId6"/>
          <a:stretch/>
        </p:blipFill>
        <p:spPr>
          <a:xfrm>
            <a:off x="2786040" y="1643040"/>
            <a:ext cx="2500200" cy="3164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radF7E15.jpg"/>
          <p:cNvPicPr/>
          <p:nvPr/>
        </p:nvPicPr>
        <p:blipFill>
          <a:blip r:embed="rId7"/>
          <a:stretch/>
        </p:blipFill>
        <p:spPr>
          <a:xfrm>
            <a:off x="0" y="478620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нгениталне херније дијафрагм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nia Bochdale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и постеролатерални плеуроперитонеални хиату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апси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уц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на и јејунум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зин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грудни ко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ерање медијастинум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јаноз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могућност гут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ребна је хитна хируршка корекц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јатус хернија кратког једња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ch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rt oesophagus ) 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дија на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0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.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знад дијафраг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ење је операц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li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senn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DF69-6F5F-4BCE-A30D-DF8025ADCFF3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ечене малформације дијафрагм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1142640"/>
            <a:ext cx="93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ростернална херн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gagn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e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ази у костостерналном углу кроз перфорације за пролаз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. mammariae interna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птоми су последица интестиналне опструк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ење је хитна хируршка интервен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позиција и затварање процепа дијафрагме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A2B7-A58B-4F0E-A374-8F1E7C0AEAC7}" type="slidenum">
              <a:rPr b="1" i="1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ауматске херније</a:t>
            </a:r>
            <a:br>
              <a:rPr sz="32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тили, убоди, пад са висине, ударац волана у грудну к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ца тендинозни део, или постоји авулзија од реб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тно стање: пролапс и укљештење органа у грудном кошу, поремећај рада срца и плу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тна операција: репозиција органа у трбух и сутура дијафрагм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а руптура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уматска хернија се понекад открива случајно приликом гастродуоденографије или иригограф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077B-644B-4DCC-A56A-19E74B6D432E}" type="slidenum">
              <a:rPr b="1" i="1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реде дијафрагм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ханизам дејства сила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олон и желудац у грудној дупљи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01E9-CCB1-4324-B521-B4CE68B61B38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8" descr="rad7F30A.jpg"/>
          <p:cNvPicPr/>
          <p:nvPr/>
        </p:nvPicPr>
        <p:blipFill>
          <a:blip r:embed="rId1"/>
          <a:stretch/>
        </p:blipFill>
        <p:spPr>
          <a:xfrm>
            <a:off x="2643120" y="4433760"/>
            <a:ext cx="3214800" cy="2424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radB053A.jpg"/>
          <p:cNvPicPr/>
          <p:nvPr/>
        </p:nvPicPr>
        <p:blipFill>
          <a:blip r:embed="rId2"/>
          <a:stretch/>
        </p:blipFill>
        <p:spPr>
          <a:xfrm>
            <a:off x="0" y="100008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rad73AD9.jpg"/>
          <p:cNvPicPr/>
          <p:nvPr/>
        </p:nvPicPr>
        <p:blipFill>
          <a:blip r:embed="rId3"/>
          <a:stretch/>
        </p:blipFill>
        <p:spPr>
          <a:xfrm>
            <a:off x="0" y="4429080"/>
            <a:ext cx="264312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rad00355.jpg"/>
          <p:cNvPicPr/>
          <p:nvPr/>
        </p:nvPicPr>
        <p:blipFill>
          <a:blip r:embed="rId4"/>
          <a:stretch/>
        </p:blipFill>
        <p:spPr>
          <a:xfrm>
            <a:off x="5851440" y="4429080"/>
            <a:ext cx="3292560" cy="2428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rad1830B.jpg"/>
          <p:cNvPicPr/>
          <p:nvPr/>
        </p:nvPicPr>
        <p:blipFill>
          <a:blip r:embed="rId5"/>
          <a:stretch/>
        </p:blipFill>
        <p:spPr>
          <a:xfrm>
            <a:off x="4643280" y="1000080"/>
            <a:ext cx="4500720" cy="3429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71280" y="3141360"/>
            <a:ext cx="302436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гор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вреда дијафрагме и јетре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гор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вреда ножем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дол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птура дијафрагме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дол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стрелни канал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FD36-FB0C-4943-B688-BFDBF69FB23C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7" descr="rad42CF4.jpg"/>
          <p:cNvPicPr/>
          <p:nvPr/>
        </p:nvPicPr>
        <p:blipFill>
          <a:blip r:embed="rId1"/>
          <a:stretch/>
        </p:blipFill>
        <p:spPr>
          <a:xfrm>
            <a:off x="0" y="3143160"/>
            <a:ext cx="2771640" cy="371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rad11949.jpg"/>
          <p:cNvPicPr/>
          <p:nvPr/>
        </p:nvPicPr>
        <p:blipFill>
          <a:blip r:embed="rId2"/>
          <a:stretch/>
        </p:blipFill>
        <p:spPr>
          <a:xfrm>
            <a:off x="0" y="0"/>
            <a:ext cx="4427640" cy="314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rad62A6A.jpg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14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rad054C5.jpg"/>
          <p:cNvPicPr/>
          <p:nvPr/>
        </p:nvPicPr>
        <p:blipFill>
          <a:blip r:embed="rId4"/>
          <a:stretch/>
        </p:blipFill>
        <p:spPr>
          <a:xfrm>
            <a:off x="5724360" y="3143160"/>
            <a:ext cx="3419640" cy="3714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тус херн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шће код же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ики број асимптоматских, случај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кривени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шта френоезофагеална мембра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лаз дела желуца кроз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at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esophagei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јафрагме на горе 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ијастину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ђена је код синдро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ОГ ЈЕДЊАК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BD45-DEC7-4968-A81F-5A185E837F0E}" type="slidenum">
              <a:rPr b="1" i="1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7:41:16Z</dcterms:created>
  <dc:creator>Zoran Matovic</dc:creator>
  <dc:description/>
  <dc:language>en-US</dc:language>
  <cp:lastModifiedBy>Boban</cp:lastModifiedBy>
  <dcterms:modified xsi:type="dcterms:W3CDTF">2016-08-24T07:45:43Z</dcterms:modified>
  <cp:revision>160</cp:revision>
  <dc:subject/>
  <dc:title>HIRURGIJA DIJAFRAG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